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334-B6C8-4677-A235-0FE4A333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53C-E176-4CAE-979A-4E35989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AE4-B2D8-458E-9BEA-C68DCFBD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6A0-3AB7-4432-8BC5-F8A5311B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93C-7607-476B-8E3E-9A102E3B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EC2-007A-44B6-9A94-C893FFF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AAC-E3A1-4DAC-A387-1C2429B6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043-8F19-4011-B4D9-1F7EAB0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DC6-0143-497F-B205-97990BB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CB7-8721-437B-9B17-9C5E731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849-670C-4B21-A099-D726302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DE0-4E42-4923-8F4C-531FFC3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C2B-5076-45CF-AB4C-0CC3A54BC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аз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 Зотовой Натальи 9 класса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55640" y="1938240"/>
            <a:ext cx="820584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вал 3"/>
          <p:cNvSpPr/>
          <p:nvPr/>
        </p:nvSpPr>
        <p:spPr>
          <a:xfrm>
            <a:off x="285840" y="2957400"/>
            <a:ext cx="3666960" cy="2971800"/>
          </a:xfrm>
          <a:prstGeom prst="ellipse">
            <a:avLst/>
          </a:prstGeom>
          <a:solidFill>
            <a:srgbClr val="26ea4b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6"/>
          <p:cNvSpPr/>
          <p:nvPr/>
        </p:nvSpPr>
        <p:spPr>
          <a:xfrm>
            <a:off x="1916280" y="4443480"/>
            <a:ext cx="406080" cy="37152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Прямоугольник 11" descr=""/>
          <p:cNvPicPr/>
          <p:nvPr/>
        </p:nvPicPr>
        <p:blipFill>
          <a:blip r:embed="rId1"/>
          <a:stretch/>
        </p:blipFill>
        <p:spPr>
          <a:xfrm>
            <a:off x="2664000" y="285840"/>
            <a:ext cx="6205320" cy="3633840"/>
          </a:xfrm>
          <a:prstGeom prst="rect">
            <a:avLst/>
          </a:prstGeom>
          <a:ln w="0">
            <a:noFill/>
          </a:ln>
        </p:spPr>
      </p:pic>
      <p:grpSp>
        <p:nvGrpSpPr>
          <p:cNvPr id="230" name="Группа 15"/>
          <p:cNvGrpSpPr/>
          <p:nvPr/>
        </p:nvGrpSpPr>
        <p:grpSpPr>
          <a:xfrm>
            <a:off x="2322360" y="3328920"/>
            <a:ext cx="1222560" cy="1114560"/>
            <a:chOff x="2322360" y="3328920"/>
            <a:chExt cx="1222560" cy="1114560"/>
          </a:xfrm>
        </p:grpSpPr>
        <p:sp>
          <p:nvSpPr>
            <p:cNvPr id="231" name="Овал 5"/>
            <p:cNvSpPr/>
            <p:nvPr/>
          </p:nvSpPr>
          <p:spPr>
            <a:xfrm>
              <a:off x="2322360" y="3328920"/>
              <a:ext cx="1222560" cy="11145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Овал 9"/>
            <p:cNvSpPr/>
            <p:nvPr/>
          </p:nvSpPr>
          <p:spPr>
            <a:xfrm>
              <a:off x="2714040" y="3714840"/>
              <a:ext cx="428760" cy="357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Группа 16"/>
          <p:cNvGrpSpPr/>
          <p:nvPr/>
        </p:nvGrpSpPr>
        <p:grpSpPr>
          <a:xfrm>
            <a:off x="693720" y="3328920"/>
            <a:ext cx="1222560" cy="1114560"/>
            <a:chOff x="693720" y="3328920"/>
            <a:chExt cx="1222560" cy="1114560"/>
          </a:xfrm>
        </p:grpSpPr>
        <p:sp>
          <p:nvSpPr>
            <p:cNvPr id="234" name="Овал 4"/>
            <p:cNvSpPr/>
            <p:nvPr/>
          </p:nvSpPr>
          <p:spPr>
            <a:xfrm>
              <a:off x="693720" y="3328920"/>
              <a:ext cx="1222560" cy="11145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Овал 10"/>
            <p:cNvSpPr/>
            <p:nvPr/>
          </p:nvSpPr>
          <p:spPr>
            <a:xfrm>
              <a:off x="1072080" y="3714840"/>
              <a:ext cx="428760" cy="357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Овал 12"/>
          <p:cNvSpPr/>
          <p:nvPr/>
        </p:nvSpPr>
        <p:spPr>
          <a:xfrm>
            <a:off x="1643040" y="4929120"/>
            <a:ext cx="714240" cy="71460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ятно 2 13"/>
          <p:cNvSpPr/>
          <p:nvPr/>
        </p:nvSpPr>
        <p:spPr>
          <a:xfrm rot="362400">
            <a:off x="909360" y="2208240"/>
            <a:ext cx="2643120" cy="1143000"/>
          </a:xfrm>
          <a:prstGeom prst="irregularSeal2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Прямоугольник 17" descr=""/>
          <p:cNvPicPr/>
          <p:nvPr/>
        </p:nvPicPr>
        <p:blipFill>
          <a:blip r:embed="rId2"/>
          <a:stretch/>
        </p:blipFill>
        <p:spPr>
          <a:xfrm>
            <a:off x="3889440" y="4438800"/>
            <a:ext cx="443232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Овал 3"/>
          <p:cNvSpPr/>
          <p:nvPr/>
        </p:nvSpPr>
        <p:spPr>
          <a:xfrm>
            <a:off x="3214800" y="3476520"/>
            <a:ext cx="3662280" cy="309564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3621240" y="3863880"/>
            <a:ext cx="1220760" cy="1160640"/>
          </a:xfrm>
          <a:prstGeom prst="ellipse">
            <a:avLst/>
          </a:prstGeom>
          <a:solidFill>
            <a:srgbClr val="4bacc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5248440" y="3863880"/>
            <a:ext cx="1220760" cy="1160640"/>
          </a:xfrm>
          <a:prstGeom prst="ellipse">
            <a:avLst/>
          </a:prstGeom>
          <a:solidFill>
            <a:srgbClr val="4bacc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4857840" y="4714920"/>
            <a:ext cx="406440" cy="3873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олния 7"/>
          <p:cNvSpPr/>
          <p:nvPr/>
        </p:nvSpPr>
        <p:spPr>
          <a:xfrm rot="19903800">
            <a:off x="3456000" y="2428920"/>
            <a:ext cx="4330800" cy="14666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есяц 8"/>
          <p:cNvSpPr/>
          <p:nvPr/>
        </p:nvSpPr>
        <p:spPr>
          <a:xfrm rot="5598000">
            <a:off x="4523400" y="4566240"/>
            <a:ext cx="966600" cy="22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Прямоугольник 10" descr=""/>
          <p:cNvPicPr/>
          <p:nvPr/>
        </p:nvPicPr>
        <p:blipFill>
          <a:blip r:embed="rId1"/>
          <a:stretch/>
        </p:blipFill>
        <p:spPr>
          <a:xfrm>
            <a:off x="19080" y="139680"/>
            <a:ext cx="6338880" cy="1146240"/>
          </a:xfrm>
          <a:prstGeom prst="rect">
            <a:avLst/>
          </a:prstGeom>
          <a:ln w="0">
            <a:noFill/>
          </a:ln>
        </p:spPr>
      </p:pic>
      <p:sp>
        <p:nvSpPr>
          <p:cNvPr id="246" name="Капля 17"/>
          <p:cNvSpPr/>
          <p:nvPr/>
        </p:nvSpPr>
        <p:spPr>
          <a:xfrm>
            <a:off x="4143240" y="4929120"/>
            <a:ext cx="21456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Капля 18"/>
          <p:cNvSpPr/>
          <p:nvPr/>
        </p:nvSpPr>
        <p:spPr>
          <a:xfrm flipH="1">
            <a:off x="5929200" y="5000760"/>
            <a:ext cx="21456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Капля 19"/>
          <p:cNvSpPr/>
          <p:nvPr/>
        </p:nvSpPr>
        <p:spPr>
          <a:xfrm>
            <a:off x="3929040" y="5000760"/>
            <a:ext cx="14292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Капля 20"/>
          <p:cNvSpPr/>
          <p:nvPr/>
        </p:nvSpPr>
        <p:spPr>
          <a:xfrm flipH="1">
            <a:off x="6143040" y="4929120"/>
            <a:ext cx="21420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Группа 9"/>
          <p:cNvGrpSpPr/>
          <p:nvPr/>
        </p:nvGrpSpPr>
        <p:grpSpPr>
          <a:xfrm>
            <a:off x="357120" y="2286000"/>
            <a:ext cx="3667320" cy="3714840"/>
            <a:chOff x="357120" y="2286000"/>
            <a:chExt cx="3667320" cy="3714840"/>
          </a:xfrm>
        </p:grpSpPr>
        <p:sp>
          <p:nvSpPr>
            <p:cNvPr id="251" name="Овал 3"/>
            <p:cNvSpPr/>
            <p:nvPr/>
          </p:nvSpPr>
          <p:spPr>
            <a:xfrm>
              <a:off x="357120" y="3028680"/>
              <a:ext cx="3667320" cy="297216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Овал 4"/>
            <p:cNvSpPr/>
            <p:nvPr/>
          </p:nvSpPr>
          <p:spPr>
            <a:xfrm>
              <a:off x="764640" y="3400560"/>
              <a:ext cx="1222560" cy="1114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Овал 5"/>
            <p:cNvSpPr/>
            <p:nvPr/>
          </p:nvSpPr>
          <p:spPr>
            <a:xfrm>
              <a:off x="2394360" y="3400560"/>
              <a:ext cx="1222560" cy="1114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Овал 6"/>
            <p:cNvSpPr/>
            <p:nvPr/>
          </p:nvSpPr>
          <p:spPr>
            <a:xfrm>
              <a:off x="1987200" y="4515120"/>
              <a:ext cx="407160" cy="371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Облако 7"/>
            <p:cNvSpPr/>
            <p:nvPr/>
          </p:nvSpPr>
          <p:spPr>
            <a:xfrm>
              <a:off x="1172160" y="2286000"/>
              <a:ext cx="2037240" cy="111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Полилиния 8"/>
            <p:cNvSpPr/>
            <p:nvPr/>
          </p:nvSpPr>
          <p:spPr>
            <a:xfrm>
              <a:off x="1319400" y="4996080"/>
              <a:ext cx="1572840" cy="51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7" name="Прямоугольник 11" descr=""/>
          <p:cNvPicPr/>
          <p:nvPr/>
        </p:nvPicPr>
        <p:blipFill>
          <a:blip r:embed="rId1"/>
          <a:stretch/>
        </p:blipFill>
        <p:spPr>
          <a:xfrm>
            <a:off x="2664000" y="285840"/>
            <a:ext cx="59623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Группа 9"/>
          <p:cNvGrpSpPr/>
          <p:nvPr/>
        </p:nvGrpSpPr>
        <p:grpSpPr>
          <a:xfrm>
            <a:off x="3214800" y="1490760"/>
            <a:ext cx="4661280" cy="5081400"/>
            <a:chOff x="3214800" y="1490760"/>
            <a:chExt cx="4661280" cy="5081400"/>
          </a:xfrm>
        </p:grpSpPr>
        <p:sp>
          <p:nvSpPr>
            <p:cNvPr id="259" name="Овал 3"/>
            <p:cNvSpPr/>
            <p:nvPr/>
          </p:nvSpPr>
          <p:spPr>
            <a:xfrm>
              <a:off x="3214800" y="3476160"/>
              <a:ext cx="3661560" cy="309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Овал 4"/>
            <p:cNvSpPr/>
            <p:nvPr/>
          </p:nvSpPr>
          <p:spPr>
            <a:xfrm>
              <a:off x="3621600" y="38631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Овал 5"/>
            <p:cNvSpPr/>
            <p:nvPr/>
          </p:nvSpPr>
          <p:spPr>
            <a:xfrm>
              <a:off x="5249160" y="38631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Овал 6"/>
            <p:cNvSpPr/>
            <p:nvPr/>
          </p:nvSpPr>
          <p:spPr>
            <a:xfrm>
              <a:off x="4842000" y="5024160"/>
              <a:ext cx="406800" cy="3870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Молния 7"/>
            <p:cNvSpPr/>
            <p:nvPr/>
          </p:nvSpPr>
          <p:spPr>
            <a:xfrm rot="19903800">
              <a:off x="3456720" y="2428560"/>
              <a:ext cx="4330080" cy="14666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Месяц 8"/>
            <p:cNvSpPr/>
            <p:nvPr/>
          </p:nvSpPr>
          <p:spPr>
            <a:xfrm rot="16027200">
              <a:off x="4420440" y="4824000"/>
              <a:ext cx="966960" cy="224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5" name="Прямоугольник 10" descr=""/>
          <p:cNvPicPr/>
          <p:nvPr/>
        </p:nvPicPr>
        <p:blipFill>
          <a:blip r:embed="rId1"/>
          <a:stretch/>
        </p:blipFill>
        <p:spPr>
          <a:xfrm>
            <a:off x="0" y="139680"/>
            <a:ext cx="880920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66" name="Группа 17"/>
          <p:cNvGrpSpPr/>
          <p:nvPr/>
        </p:nvGrpSpPr>
        <p:grpSpPr>
          <a:xfrm>
            <a:off x="857160" y="3125880"/>
            <a:ext cx="2362680" cy="3490200"/>
            <a:chOff x="857160" y="3125880"/>
            <a:chExt cx="2362680" cy="3490200"/>
          </a:xfrm>
        </p:grpSpPr>
        <p:grpSp>
          <p:nvGrpSpPr>
            <p:cNvPr id="267" name="Группа 12"/>
            <p:cNvGrpSpPr/>
            <p:nvPr/>
          </p:nvGrpSpPr>
          <p:grpSpPr>
            <a:xfrm>
              <a:off x="1355040" y="4743000"/>
              <a:ext cx="1864800" cy="1873080"/>
              <a:chOff x="1355040" y="4743000"/>
              <a:chExt cx="1864800" cy="1873080"/>
            </a:xfrm>
          </p:grpSpPr>
          <p:sp>
            <p:nvSpPr>
              <p:cNvPr id="268" name="Цилиндр 9"/>
              <p:cNvSpPr/>
              <p:nvPr/>
            </p:nvSpPr>
            <p:spPr>
              <a:xfrm rot="8109600">
                <a:off x="1968120" y="4573440"/>
                <a:ext cx="285840" cy="1857240"/>
              </a:xfrm>
              <a:prstGeom prst="can">
                <a:avLst>
                  <a:gd name="adj" fmla="val 3847"/>
                </a:avLst>
              </a:prstGeom>
              <a:solidFill>
                <a:srgbClr val="ffffff"/>
              </a:solidFill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Цилиндр 11"/>
              <p:cNvSpPr/>
              <p:nvPr/>
            </p:nvSpPr>
            <p:spPr>
              <a:xfrm rot="8109600">
                <a:off x="2773800" y="6026760"/>
                <a:ext cx="285840" cy="571320"/>
              </a:xfrm>
              <a:prstGeom prst="can">
                <a:avLst>
                  <a:gd name="adj" fmla="val 12500"/>
                </a:avLst>
              </a:prstGeom>
              <a:solidFill>
                <a:srgbClr val="fac090"/>
              </a:solidFill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Полилиния 13"/>
            <p:cNvSpPr/>
            <p:nvPr/>
          </p:nvSpPr>
          <p:spPr>
            <a:xfrm>
              <a:off x="1335240" y="3125880"/>
              <a:ext cx="567000" cy="1669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Прямоугольный треугольник 15"/>
            <p:cNvSpPr/>
            <p:nvPr/>
          </p:nvSpPr>
          <p:spPr>
            <a:xfrm rot="5853000">
              <a:off x="1341360" y="4795560"/>
              <a:ext cx="357120" cy="285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Полилиния 16"/>
            <p:cNvSpPr/>
            <p:nvPr/>
          </p:nvSpPr>
          <p:spPr>
            <a:xfrm>
              <a:off x="857160" y="3191040"/>
              <a:ext cx="1090080" cy="155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-0.00625 0.00162 -0.01163 0.0037 -0.01788 0.00486 C -0.02014 0.00671 -0.02292 0.00718 -0.025 0.00949 C -0.02986 0.01481 -0.0276 0.01597 -0.0309 0.02222 C -0.03976 0.03866 -0.02969 0.01481 -0.03698 0.03333 C -0.03819 0.04143 -0.0401 0.04838 -0.04288 0.05556 C -0.04566 0.07083 -0.04826 0.08588 -0.05 0.10162 C -0.04774 0.14143 -0.05122 0.15 -0.03576 0.17778 C -0.03142 0.18565 -0.03056 0.19375 -0.02257 0.19676 C -0.01198 0.20741 -0.01684 0.20486 -0.00955 0.20787 C -0.00312 0.21643 0.00729 0.21875 0.01545 0.22384 C 0.01788 0.22523 0.01997 0.22778 0.02257 0.2287 C 0.02795 0.23079 0.03368 0.23171 0.03924 0.23333 C 0.04132 0.2338 0.04531 0.23495 0.04531 0.23495 C 0.07465 0.2338 0.09132 0.23935 0.11076 0.21435 C 0.11389 0.20185 0.11997 0.19028 0.12378 0.17778 C 0.1276 0.14722 0.12135 0.19259 0.12865 0.15718 C 0.13142 0.14398 0.13212 0.1294 0.13455 0.11597 C 0.13507 0.11273 0.13628 0.10972 0.13698 0.10648 C 0.13785 0.10231 0.13854 0.09792 0.13924 0.09375 C 0.1408 0.08333 0.14132 0.07245 0.14288 0.06204 C 0.14358 0.05671 0.14531 0.04606 0.14531 0.04606 C 0.14583 0.03611 0.14948 0.00718 0.15365 -0.00324 C 0.15503 -0.00648 0.15764 -0.00857 0.15955 -0.01111 C 0.16215 -0.02431 0.15833 -0.01204 0.16545 -0.01898 C 0.17135 -0.02477 0.17465 -0.03357 0.18212 -0.03796 C 0.18507 -0.03958 0.18837 -0.03982 0.19167 -0.0412 C 0.21476 -0.05232 0.2349 -0.05787 0.25955 -0.06019 C 0.26424 -0.06181 0.26892 -0.06435 0.27378 -0.06505 C 0.28889 -0.06759 0.3191 -0.06991 0.3191 -0.06991 C 0.34965 -0.06875 0.38021 -0.06921 0.41076 -0.06667 C 0.43681 -0.06458 0.45573 -0.04537 0.47969 -0.03495 C 0.4908 -0.02431 0.50313 -0.01435 0.51302 -0.00162 C 0.54271 0.03611 0.57014 0.08148 0.61302 0.08889 C 0.63906 0.08518 0.6625 0.07917 0.68802 0.07153 C 0.69236 0.06829 0.69705 0.06574 0.70122 0.06204 C 0.70538 0.05833 0.70868 0.05278 0.71302 0.04931 C 0.71719 0.04583 0.72222 0.04491 0.72622 0.0412 C 0.73385 0.03426 0.74045 0.02546 0.74757 0.01759 C 0.75833 0.00602 0.76458 0.00231 0.77257 -0.01574 C 0.77656 -0.02477 0.77847 -0.03357 0.78212 -0.04282 C 0.78715 -0.07569 0.8125 -0.0875 0.83212 -0.10162 C 0.84045 -0.10764 0.8467 -0.1125 0.8559 -0.11574 C 0.85799 -0.11736 0.85972 -0.11944 0.86198 -0.1206 C 0.86493 -0.12222 0.87135 -0.12384 0.87135 -0.12384 C 0.87257 -0.12477 0.875 -0.12685 0.875 -0.12685 E">
                                      <p:cBhvr>
                                        <p:cTn id="230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Капля 15"/>
          <p:cNvSpPr/>
          <p:nvPr/>
        </p:nvSpPr>
        <p:spPr>
          <a:xfrm rot="1212600">
            <a:off x="285480" y="3100320"/>
            <a:ext cx="857160" cy="714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Группа 71"/>
          <p:cNvGrpSpPr/>
          <p:nvPr/>
        </p:nvGrpSpPr>
        <p:grpSpPr>
          <a:xfrm>
            <a:off x="273240" y="2214720"/>
            <a:ext cx="2364840" cy="2857320"/>
            <a:chOff x="273240" y="2214720"/>
            <a:chExt cx="2364840" cy="2857320"/>
          </a:xfrm>
        </p:grpSpPr>
        <p:sp>
          <p:nvSpPr>
            <p:cNvPr id="275" name="Овал 7"/>
            <p:cNvSpPr/>
            <p:nvPr/>
          </p:nvSpPr>
          <p:spPr>
            <a:xfrm>
              <a:off x="1130400" y="2357280"/>
              <a:ext cx="642960" cy="57132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Правильный пятиугольник 8"/>
            <p:cNvSpPr/>
            <p:nvPr/>
          </p:nvSpPr>
          <p:spPr>
            <a:xfrm>
              <a:off x="1130400" y="2928960"/>
              <a:ext cx="642960" cy="428400"/>
            </a:xfrm>
            <a:prstGeom prst="pentagon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Овал 9"/>
            <p:cNvSpPr/>
            <p:nvPr/>
          </p:nvSpPr>
          <p:spPr>
            <a:xfrm>
              <a:off x="916200" y="3357720"/>
              <a:ext cx="1071360" cy="100008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Овал 10"/>
            <p:cNvSpPr/>
            <p:nvPr/>
          </p:nvSpPr>
          <p:spPr>
            <a:xfrm>
              <a:off x="120204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Овал 11"/>
            <p:cNvSpPr/>
            <p:nvPr/>
          </p:nvSpPr>
          <p:spPr>
            <a:xfrm>
              <a:off x="148752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Овал 12"/>
            <p:cNvSpPr/>
            <p:nvPr/>
          </p:nvSpPr>
          <p:spPr>
            <a:xfrm>
              <a:off x="1416240" y="264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Капля 13"/>
            <p:cNvSpPr/>
            <p:nvPr/>
          </p:nvSpPr>
          <p:spPr>
            <a:xfrm rot="4654800">
              <a:off x="285480" y="24235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Капля 14"/>
            <p:cNvSpPr/>
            <p:nvPr/>
          </p:nvSpPr>
          <p:spPr>
            <a:xfrm rot="10800000">
              <a:off x="1773000" y="24289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Капля 16"/>
            <p:cNvSpPr/>
            <p:nvPr/>
          </p:nvSpPr>
          <p:spPr>
            <a:xfrm rot="15166800">
              <a:off x="1741320" y="322920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Облако 17"/>
            <p:cNvSpPr/>
            <p:nvPr/>
          </p:nvSpPr>
          <p:spPr>
            <a:xfrm>
              <a:off x="1273320" y="2214720"/>
              <a:ext cx="357120" cy="2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Арка 18"/>
            <p:cNvSpPr/>
            <p:nvPr/>
          </p:nvSpPr>
          <p:spPr>
            <a:xfrm rot="12990000">
              <a:off x="1704240" y="3120480"/>
              <a:ext cx="785520" cy="4284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Арка 19"/>
            <p:cNvSpPr/>
            <p:nvPr/>
          </p:nvSpPr>
          <p:spPr>
            <a:xfrm flipV="1" rot="7523400">
              <a:off x="593640" y="3157920"/>
              <a:ext cx="785520" cy="43236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Фигура, имеющая форму буквы L 20"/>
            <p:cNvSpPr/>
            <p:nvPr/>
          </p:nvSpPr>
          <p:spPr>
            <a:xfrm>
              <a:off x="170208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Фигура, имеющая форму буквы L 21"/>
            <p:cNvSpPr/>
            <p:nvPr/>
          </p:nvSpPr>
          <p:spPr>
            <a:xfrm flipH="1">
              <a:off x="105912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Полилиния 22"/>
            <p:cNvSpPr/>
            <p:nvPr/>
          </p:nvSpPr>
          <p:spPr>
            <a:xfrm>
              <a:off x="1299240" y="2735640"/>
              <a:ext cx="275760" cy="9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Овал 23"/>
            <p:cNvSpPr/>
            <p:nvPr/>
          </p:nvSpPr>
          <p:spPr>
            <a:xfrm>
              <a:off x="2297160" y="3500640"/>
              <a:ext cx="28548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Овал 24"/>
            <p:cNvSpPr/>
            <p:nvPr/>
          </p:nvSpPr>
          <p:spPr>
            <a:xfrm>
              <a:off x="654120" y="3571920"/>
              <a:ext cx="21420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Солнце 25"/>
          <p:cNvSpPr/>
          <p:nvPr/>
        </p:nvSpPr>
        <p:spPr>
          <a:xfrm>
            <a:off x="6858000" y="0"/>
            <a:ext cx="2286000" cy="2357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олилиния 27"/>
          <p:cNvSpPr/>
          <p:nvPr/>
        </p:nvSpPr>
        <p:spPr>
          <a:xfrm>
            <a:off x="312840" y="5357880"/>
            <a:ext cx="8831160" cy="103824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Группа 36"/>
          <p:cNvGrpSpPr/>
          <p:nvPr/>
        </p:nvGrpSpPr>
        <p:grpSpPr>
          <a:xfrm>
            <a:off x="4089240" y="4929480"/>
            <a:ext cx="1004400" cy="1928520"/>
            <a:chOff x="4089240" y="4929480"/>
            <a:chExt cx="1004400" cy="1928520"/>
          </a:xfrm>
        </p:grpSpPr>
        <p:sp>
          <p:nvSpPr>
            <p:cNvPr id="295" name="Овал 28"/>
            <p:cNvSpPr/>
            <p:nvPr/>
          </p:nvSpPr>
          <p:spPr>
            <a:xfrm>
              <a:off x="4518360" y="5312880"/>
              <a:ext cx="21456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Капля 29"/>
            <p:cNvSpPr/>
            <p:nvPr/>
          </p:nvSpPr>
          <p:spPr>
            <a:xfrm rot="5913000">
              <a:off x="4303800" y="502848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Капля 30"/>
            <p:cNvSpPr/>
            <p:nvPr/>
          </p:nvSpPr>
          <p:spPr>
            <a:xfrm rot="9324000">
              <a:off x="4607640" y="49759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Капля 31"/>
            <p:cNvSpPr/>
            <p:nvPr/>
          </p:nvSpPr>
          <p:spPr>
            <a:xfrm rot="13068600">
              <a:off x="4750920" y="52621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Капля 32"/>
            <p:cNvSpPr/>
            <p:nvPr/>
          </p:nvSpPr>
          <p:spPr>
            <a:xfrm rot="16804200">
              <a:off x="4608360" y="547632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Капля 33"/>
            <p:cNvSpPr/>
            <p:nvPr/>
          </p:nvSpPr>
          <p:spPr>
            <a:xfrm rot="21001200">
              <a:off x="4254480" y="54810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Капля 34"/>
            <p:cNvSpPr/>
            <p:nvPr/>
          </p:nvSpPr>
          <p:spPr>
            <a:xfrm rot="2673000">
              <a:off x="4142880" y="52398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Полилиния 35"/>
            <p:cNvSpPr/>
            <p:nvPr/>
          </p:nvSpPr>
          <p:spPr>
            <a:xfrm>
              <a:off x="4581360" y="539856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Группа 55"/>
          <p:cNvGrpSpPr/>
          <p:nvPr/>
        </p:nvGrpSpPr>
        <p:grpSpPr>
          <a:xfrm>
            <a:off x="1874880" y="4596480"/>
            <a:ext cx="1002600" cy="1928160"/>
            <a:chOff x="1874880" y="4596480"/>
            <a:chExt cx="1002600" cy="1928160"/>
          </a:xfrm>
        </p:grpSpPr>
        <p:sp>
          <p:nvSpPr>
            <p:cNvPr id="304" name="Овал 38"/>
            <p:cNvSpPr/>
            <p:nvPr/>
          </p:nvSpPr>
          <p:spPr>
            <a:xfrm>
              <a:off x="2303280" y="4979520"/>
              <a:ext cx="21384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Капля 39"/>
            <p:cNvSpPr/>
            <p:nvPr/>
          </p:nvSpPr>
          <p:spPr>
            <a:xfrm rot="5913000">
              <a:off x="2089080" y="469548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Капля 40"/>
            <p:cNvSpPr/>
            <p:nvPr/>
          </p:nvSpPr>
          <p:spPr>
            <a:xfrm rot="9324000">
              <a:off x="2392200" y="464292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Капля 41"/>
            <p:cNvSpPr/>
            <p:nvPr/>
          </p:nvSpPr>
          <p:spPr>
            <a:xfrm rot="13068600">
              <a:off x="2535120" y="492840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Капля 42"/>
            <p:cNvSpPr/>
            <p:nvPr/>
          </p:nvSpPr>
          <p:spPr>
            <a:xfrm rot="16804200">
              <a:off x="2392560" y="514332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Капля 43"/>
            <p:cNvSpPr/>
            <p:nvPr/>
          </p:nvSpPr>
          <p:spPr>
            <a:xfrm rot="21001200">
              <a:off x="2039760" y="51476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Капля 44"/>
            <p:cNvSpPr/>
            <p:nvPr/>
          </p:nvSpPr>
          <p:spPr>
            <a:xfrm rot="2673000">
              <a:off x="1928520" y="49064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Полилиния 45"/>
            <p:cNvSpPr/>
            <p:nvPr/>
          </p:nvSpPr>
          <p:spPr>
            <a:xfrm>
              <a:off x="2365920" y="506520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Группа 57"/>
          <p:cNvGrpSpPr/>
          <p:nvPr/>
        </p:nvGrpSpPr>
        <p:grpSpPr>
          <a:xfrm>
            <a:off x="5875200" y="4453560"/>
            <a:ext cx="1004400" cy="1928160"/>
            <a:chOff x="5875200" y="4453560"/>
            <a:chExt cx="1004400" cy="1928160"/>
          </a:xfrm>
        </p:grpSpPr>
        <p:sp>
          <p:nvSpPr>
            <p:cNvPr id="313" name="Капля 53"/>
            <p:cNvSpPr/>
            <p:nvPr/>
          </p:nvSpPr>
          <p:spPr>
            <a:xfrm rot="2673000">
              <a:off x="5928840" y="4763880"/>
              <a:ext cx="315720" cy="282600"/>
            </a:xfrm>
            <a:prstGeom prst="pie">
              <a:avLst/>
            </a:prstGeom>
            <a:solidFill>
              <a:srgbClr val="bd0d8f"/>
            </a:solidFill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4" name="Группа 56"/>
            <p:cNvGrpSpPr/>
            <p:nvPr/>
          </p:nvGrpSpPr>
          <p:grpSpPr>
            <a:xfrm>
              <a:off x="6018480" y="4453560"/>
              <a:ext cx="861120" cy="1928160"/>
              <a:chOff x="6018480" y="4453560"/>
              <a:chExt cx="861120" cy="1928160"/>
            </a:xfrm>
          </p:grpSpPr>
          <p:sp>
            <p:nvSpPr>
              <p:cNvPr id="315" name="Овал 47"/>
              <p:cNvSpPr/>
              <p:nvPr/>
            </p:nvSpPr>
            <p:spPr>
              <a:xfrm>
                <a:off x="6304320" y="4836960"/>
                <a:ext cx="214560" cy="2142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Капля 48"/>
              <p:cNvSpPr/>
              <p:nvPr/>
            </p:nvSpPr>
            <p:spPr>
              <a:xfrm rot="5913000">
                <a:off x="6089760" y="455256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Капля 49"/>
              <p:cNvSpPr/>
              <p:nvPr/>
            </p:nvSpPr>
            <p:spPr>
              <a:xfrm rot="9324000">
                <a:off x="6393600" y="45000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Капля 50"/>
              <p:cNvSpPr/>
              <p:nvPr/>
            </p:nvSpPr>
            <p:spPr>
              <a:xfrm rot="13068600">
                <a:off x="6536880" y="47862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Капля 51"/>
              <p:cNvSpPr/>
              <p:nvPr/>
            </p:nvSpPr>
            <p:spPr>
              <a:xfrm rot="16804200">
                <a:off x="6393960" y="500040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Капля 52"/>
              <p:cNvSpPr/>
              <p:nvPr/>
            </p:nvSpPr>
            <p:spPr>
              <a:xfrm rot="21001200">
                <a:off x="6040440" y="5005080"/>
                <a:ext cx="31572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Полилиния 54"/>
              <p:cNvSpPr/>
              <p:nvPr/>
            </p:nvSpPr>
            <p:spPr>
              <a:xfrm>
                <a:off x="6367320" y="4922640"/>
                <a:ext cx="61560" cy="1459080"/>
              </a:xfrm>
              <a:prstGeom prst="pie">
                <a:avLst/>
              </a:prstGeom>
              <a:noFill/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2" name="Группа 72"/>
          <p:cNvGrpSpPr/>
          <p:nvPr/>
        </p:nvGrpSpPr>
        <p:grpSpPr>
          <a:xfrm>
            <a:off x="5569200" y="2265120"/>
            <a:ext cx="2318760" cy="3071880"/>
            <a:chOff x="5569200" y="2265120"/>
            <a:chExt cx="2318760" cy="3071880"/>
          </a:xfrm>
        </p:grpSpPr>
        <p:sp>
          <p:nvSpPr>
            <p:cNvPr id="323" name="Овал 76"/>
            <p:cNvSpPr/>
            <p:nvPr/>
          </p:nvSpPr>
          <p:spPr>
            <a:xfrm>
              <a:off x="6380640" y="2622240"/>
              <a:ext cx="642600" cy="571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Капля 62"/>
            <p:cNvSpPr/>
            <p:nvPr/>
          </p:nvSpPr>
          <p:spPr>
            <a:xfrm rot="4654800">
              <a:off x="5581440" y="273384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Правильный пятиугольник 77"/>
            <p:cNvSpPr/>
            <p:nvPr/>
          </p:nvSpPr>
          <p:spPr>
            <a:xfrm>
              <a:off x="6380640" y="3193560"/>
              <a:ext cx="642600" cy="428400"/>
            </a:xfrm>
            <a:prstGeom prst="pentagon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Овал 78"/>
            <p:cNvSpPr/>
            <p:nvPr/>
          </p:nvSpPr>
          <p:spPr>
            <a:xfrm>
              <a:off x="6166080" y="3622320"/>
              <a:ext cx="1071360" cy="1000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Овал 79"/>
            <p:cNvSpPr/>
            <p:nvPr/>
          </p:nvSpPr>
          <p:spPr>
            <a:xfrm>
              <a:off x="6451920" y="2693520"/>
              <a:ext cx="214200" cy="2142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Овал 80"/>
            <p:cNvSpPr/>
            <p:nvPr/>
          </p:nvSpPr>
          <p:spPr>
            <a:xfrm>
              <a:off x="6737760" y="2693520"/>
              <a:ext cx="214200" cy="2142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Овал 81"/>
            <p:cNvSpPr/>
            <p:nvPr/>
          </p:nvSpPr>
          <p:spPr>
            <a:xfrm>
              <a:off x="6666120" y="290772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Капля 82"/>
            <p:cNvSpPr/>
            <p:nvPr/>
          </p:nvSpPr>
          <p:spPr>
            <a:xfrm rot="10800000">
              <a:off x="7022880" y="269352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Капля 84"/>
            <p:cNvSpPr/>
            <p:nvPr/>
          </p:nvSpPr>
          <p:spPr>
            <a:xfrm rot="15166800">
              <a:off x="6991200" y="349416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Арка 85"/>
            <p:cNvSpPr/>
            <p:nvPr/>
          </p:nvSpPr>
          <p:spPr>
            <a:xfrm rot="19792800">
              <a:off x="5744160" y="3311640"/>
              <a:ext cx="785520" cy="42732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Арка 86"/>
            <p:cNvSpPr/>
            <p:nvPr/>
          </p:nvSpPr>
          <p:spPr>
            <a:xfrm flipV="1" rot="15698400">
              <a:off x="6638760" y="3611880"/>
              <a:ext cx="785880" cy="43236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Фигура, имеющая форму буквы L 87"/>
            <p:cNvSpPr/>
            <p:nvPr/>
          </p:nvSpPr>
          <p:spPr>
            <a:xfrm>
              <a:off x="6951960" y="4551120"/>
              <a:ext cx="142560" cy="78588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Фигура, имеющая форму буквы L 88"/>
            <p:cNvSpPr/>
            <p:nvPr/>
          </p:nvSpPr>
          <p:spPr>
            <a:xfrm flipH="1">
              <a:off x="6309000" y="4551120"/>
              <a:ext cx="142560" cy="78588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Овал 89"/>
            <p:cNvSpPr/>
            <p:nvPr/>
          </p:nvSpPr>
          <p:spPr>
            <a:xfrm>
              <a:off x="5689800" y="3643560"/>
              <a:ext cx="285480" cy="2142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Овал 90"/>
            <p:cNvSpPr/>
            <p:nvPr/>
          </p:nvSpPr>
          <p:spPr>
            <a:xfrm>
              <a:off x="6904080" y="4122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Молния 91"/>
            <p:cNvSpPr/>
            <p:nvPr/>
          </p:nvSpPr>
          <p:spPr>
            <a:xfrm rot="19903800">
              <a:off x="6423120" y="2428920"/>
              <a:ext cx="759960" cy="27072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Месяц 92"/>
            <p:cNvSpPr/>
            <p:nvPr/>
          </p:nvSpPr>
          <p:spPr>
            <a:xfrm rot="16027200">
              <a:off x="6587640" y="2881080"/>
              <a:ext cx="178560" cy="39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0" name="Прямоугольник 3" descr=""/>
          <p:cNvPicPr/>
          <p:nvPr/>
        </p:nvPicPr>
        <p:blipFill>
          <a:blip r:embed="rId1"/>
          <a:stretch/>
        </p:blipFill>
        <p:spPr>
          <a:xfrm>
            <a:off x="-109440" y="30240"/>
            <a:ext cx="7931160" cy="36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3.7037E-006 L -0.3974 -0.00324 E">
                                      <p:cBhvr>
                                        <p:cTn id="24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Группа 69"/>
          <p:cNvGrpSpPr/>
          <p:nvPr/>
        </p:nvGrpSpPr>
        <p:grpSpPr>
          <a:xfrm>
            <a:off x="189000" y="2214720"/>
            <a:ext cx="2449080" cy="2857320"/>
            <a:chOff x="189000" y="2214720"/>
            <a:chExt cx="2449080" cy="2857320"/>
          </a:xfrm>
        </p:grpSpPr>
        <p:sp>
          <p:nvSpPr>
            <p:cNvPr id="342" name="Капля 15"/>
            <p:cNvSpPr/>
            <p:nvPr/>
          </p:nvSpPr>
          <p:spPr>
            <a:xfrm rot="1212600">
              <a:off x="285840" y="310068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3" name="Группа 71"/>
            <p:cNvGrpSpPr/>
            <p:nvPr/>
          </p:nvGrpSpPr>
          <p:grpSpPr>
            <a:xfrm>
              <a:off x="273240" y="2214720"/>
              <a:ext cx="2364840" cy="2857320"/>
              <a:chOff x="273240" y="2214720"/>
              <a:chExt cx="2364840" cy="2857320"/>
            </a:xfrm>
          </p:grpSpPr>
          <p:sp>
            <p:nvSpPr>
              <p:cNvPr id="344" name="Овал 7"/>
              <p:cNvSpPr/>
              <p:nvPr/>
            </p:nvSpPr>
            <p:spPr>
              <a:xfrm>
                <a:off x="1130400" y="2357280"/>
                <a:ext cx="642960" cy="571320"/>
              </a:xfrm>
              <a:prstGeom prst="ellipse">
                <a:avLst/>
              </a:prstGeom>
              <a:solidFill>
                <a:srgbClr val="26ea4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Правильный пятиугольник 8"/>
              <p:cNvSpPr/>
              <p:nvPr/>
            </p:nvSpPr>
            <p:spPr>
              <a:xfrm>
                <a:off x="1130400" y="2928960"/>
                <a:ext cx="642960" cy="428400"/>
              </a:xfrm>
              <a:prstGeom prst="pentagon">
                <a:avLst/>
              </a:prstGeom>
              <a:solidFill>
                <a:srgbClr val="26ea4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Овал 9"/>
              <p:cNvSpPr/>
              <p:nvPr/>
            </p:nvSpPr>
            <p:spPr>
              <a:xfrm>
                <a:off x="916200" y="3357720"/>
                <a:ext cx="1071360" cy="1000080"/>
              </a:xfrm>
              <a:prstGeom prst="ellipse">
                <a:avLst/>
              </a:prstGeom>
              <a:solidFill>
                <a:srgbClr val="26ea4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Овал 10"/>
              <p:cNvSpPr/>
              <p:nvPr/>
            </p:nvSpPr>
            <p:spPr>
              <a:xfrm>
                <a:off x="1202040" y="2428920"/>
                <a:ext cx="214200" cy="2142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Овал 11"/>
              <p:cNvSpPr/>
              <p:nvPr/>
            </p:nvSpPr>
            <p:spPr>
              <a:xfrm>
                <a:off x="1487520" y="2428920"/>
                <a:ext cx="214200" cy="2142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Овал 12"/>
              <p:cNvSpPr/>
              <p:nvPr/>
            </p:nvSpPr>
            <p:spPr>
              <a:xfrm>
                <a:off x="1416240" y="26431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Капля 13"/>
              <p:cNvSpPr/>
              <p:nvPr/>
            </p:nvSpPr>
            <p:spPr>
              <a:xfrm rot="4654800">
                <a:off x="285480" y="2423520"/>
                <a:ext cx="857160" cy="71424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Капля 14"/>
              <p:cNvSpPr/>
              <p:nvPr/>
            </p:nvSpPr>
            <p:spPr>
              <a:xfrm rot="10800000">
                <a:off x="1773000" y="2428920"/>
                <a:ext cx="857160" cy="71424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Капля 16"/>
              <p:cNvSpPr/>
              <p:nvPr/>
            </p:nvSpPr>
            <p:spPr>
              <a:xfrm rot="15166800">
                <a:off x="1741320" y="3229200"/>
                <a:ext cx="857160" cy="71424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Облако 17"/>
              <p:cNvSpPr/>
              <p:nvPr/>
            </p:nvSpPr>
            <p:spPr>
              <a:xfrm>
                <a:off x="1273320" y="2214720"/>
                <a:ext cx="357120" cy="214200"/>
              </a:xfrm>
              <a:prstGeom prst="pi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Арка 18"/>
              <p:cNvSpPr/>
              <p:nvPr/>
            </p:nvSpPr>
            <p:spPr>
              <a:xfrm rot="12990000">
                <a:off x="1704240" y="3120480"/>
                <a:ext cx="785520" cy="428400"/>
              </a:xfrm>
              <a:prstGeom prst="pi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Арка 19"/>
              <p:cNvSpPr/>
              <p:nvPr/>
            </p:nvSpPr>
            <p:spPr>
              <a:xfrm flipV="1" rot="7523400">
                <a:off x="593640" y="3157920"/>
                <a:ext cx="785520" cy="432360"/>
              </a:xfrm>
              <a:prstGeom prst="pi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Фигура, имеющая форму буквы L 20"/>
              <p:cNvSpPr/>
              <p:nvPr/>
            </p:nvSpPr>
            <p:spPr>
              <a:xfrm>
                <a:off x="1702080" y="4286520"/>
                <a:ext cx="142560" cy="785520"/>
              </a:xfrm>
              <a:prstGeom prst="pi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Фигура, имеющая форму буквы L 21"/>
              <p:cNvSpPr/>
              <p:nvPr/>
            </p:nvSpPr>
            <p:spPr>
              <a:xfrm flipH="1">
                <a:off x="1059120" y="4286520"/>
                <a:ext cx="142560" cy="785520"/>
              </a:xfrm>
              <a:prstGeom prst="pi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Полилиния 22"/>
              <p:cNvSpPr/>
              <p:nvPr/>
            </p:nvSpPr>
            <p:spPr>
              <a:xfrm>
                <a:off x="1299240" y="2735640"/>
                <a:ext cx="275760" cy="9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Овал 23"/>
              <p:cNvSpPr/>
              <p:nvPr/>
            </p:nvSpPr>
            <p:spPr>
              <a:xfrm>
                <a:off x="2297160" y="3500640"/>
                <a:ext cx="285480" cy="214200"/>
              </a:xfrm>
              <a:prstGeom prst="ellips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Овал 24"/>
              <p:cNvSpPr/>
              <p:nvPr/>
            </p:nvSpPr>
            <p:spPr>
              <a:xfrm>
                <a:off x="654120" y="3571920"/>
                <a:ext cx="214200" cy="214200"/>
              </a:xfrm>
              <a:prstGeom prst="ellipse">
                <a:avLst/>
              </a:prstGeom>
              <a:solidFill>
                <a:srgbClr val="26ea4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1" name="Солнце 25"/>
          <p:cNvSpPr/>
          <p:nvPr/>
        </p:nvSpPr>
        <p:spPr>
          <a:xfrm>
            <a:off x="6858000" y="0"/>
            <a:ext cx="2286000" cy="2357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олилиния 27"/>
          <p:cNvSpPr/>
          <p:nvPr/>
        </p:nvSpPr>
        <p:spPr>
          <a:xfrm>
            <a:off x="312840" y="5357880"/>
            <a:ext cx="8831160" cy="103824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Группа 36"/>
          <p:cNvGrpSpPr/>
          <p:nvPr/>
        </p:nvGrpSpPr>
        <p:grpSpPr>
          <a:xfrm>
            <a:off x="4089240" y="4929480"/>
            <a:ext cx="1004400" cy="1928520"/>
            <a:chOff x="4089240" y="4929480"/>
            <a:chExt cx="1004400" cy="1928520"/>
          </a:xfrm>
        </p:grpSpPr>
        <p:sp>
          <p:nvSpPr>
            <p:cNvPr id="364" name="Овал 28"/>
            <p:cNvSpPr/>
            <p:nvPr/>
          </p:nvSpPr>
          <p:spPr>
            <a:xfrm>
              <a:off x="4518360" y="5312880"/>
              <a:ext cx="21456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Капля 29"/>
            <p:cNvSpPr/>
            <p:nvPr/>
          </p:nvSpPr>
          <p:spPr>
            <a:xfrm rot="5913000">
              <a:off x="4303800" y="502848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Капля 30"/>
            <p:cNvSpPr/>
            <p:nvPr/>
          </p:nvSpPr>
          <p:spPr>
            <a:xfrm rot="9324000">
              <a:off x="4607640" y="49759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Капля 31"/>
            <p:cNvSpPr/>
            <p:nvPr/>
          </p:nvSpPr>
          <p:spPr>
            <a:xfrm rot="13068600">
              <a:off x="4750920" y="52621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Капля 32"/>
            <p:cNvSpPr/>
            <p:nvPr/>
          </p:nvSpPr>
          <p:spPr>
            <a:xfrm rot="16804200">
              <a:off x="4608360" y="547632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Капля 33"/>
            <p:cNvSpPr/>
            <p:nvPr/>
          </p:nvSpPr>
          <p:spPr>
            <a:xfrm rot="21001200">
              <a:off x="4254480" y="54810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Капля 34"/>
            <p:cNvSpPr/>
            <p:nvPr/>
          </p:nvSpPr>
          <p:spPr>
            <a:xfrm rot="2673000">
              <a:off x="4142880" y="52398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Полилиния 35"/>
            <p:cNvSpPr/>
            <p:nvPr/>
          </p:nvSpPr>
          <p:spPr>
            <a:xfrm>
              <a:off x="4581360" y="539856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Группа 55"/>
          <p:cNvGrpSpPr/>
          <p:nvPr/>
        </p:nvGrpSpPr>
        <p:grpSpPr>
          <a:xfrm>
            <a:off x="1874880" y="4596480"/>
            <a:ext cx="1002600" cy="1928160"/>
            <a:chOff x="1874880" y="4596480"/>
            <a:chExt cx="1002600" cy="1928160"/>
          </a:xfrm>
        </p:grpSpPr>
        <p:sp>
          <p:nvSpPr>
            <p:cNvPr id="373" name="Овал 38"/>
            <p:cNvSpPr/>
            <p:nvPr/>
          </p:nvSpPr>
          <p:spPr>
            <a:xfrm>
              <a:off x="2303280" y="4979520"/>
              <a:ext cx="21384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Капля 39"/>
            <p:cNvSpPr/>
            <p:nvPr/>
          </p:nvSpPr>
          <p:spPr>
            <a:xfrm rot="5913000">
              <a:off x="2089080" y="469548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Капля 40"/>
            <p:cNvSpPr/>
            <p:nvPr/>
          </p:nvSpPr>
          <p:spPr>
            <a:xfrm rot="9324000">
              <a:off x="2392200" y="464292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Капля 41"/>
            <p:cNvSpPr/>
            <p:nvPr/>
          </p:nvSpPr>
          <p:spPr>
            <a:xfrm rot="13068600">
              <a:off x="2535120" y="492840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Капля 42"/>
            <p:cNvSpPr/>
            <p:nvPr/>
          </p:nvSpPr>
          <p:spPr>
            <a:xfrm rot="16804200">
              <a:off x="2392560" y="514332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Капля 43"/>
            <p:cNvSpPr/>
            <p:nvPr/>
          </p:nvSpPr>
          <p:spPr>
            <a:xfrm rot="21001200">
              <a:off x="2039760" y="51476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Капля 44"/>
            <p:cNvSpPr/>
            <p:nvPr/>
          </p:nvSpPr>
          <p:spPr>
            <a:xfrm rot="2673000">
              <a:off x="1928520" y="49064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Полилиния 45"/>
            <p:cNvSpPr/>
            <p:nvPr/>
          </p:nvSpPr>
          <p:spPr>
            <a:xfrm>
              <a:off x="2365920" y="506520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Группа 57"/>
          <p:cNvGrpSpPr/>
          <p:nvPr/>
        </p:nvGrpSpPr>
        <p:grpSpPr>
          <a:xfrm>
            <a:off x="5875200" y="4453560"/>
            <a:ext cx="1004400" cy="1928160"/>
            <a:chOff x="5875200" y="4453560"/>
            <a:chExt cx="1004400" cy="1928160"/>
          </a:xfrm>
        </p:grpSpPr>
        <p:sp>
          <p:nvSpPr>
            <p:cNvPr id="382" name="Капля 53"/>
            <p:cNvSpPr/>
            <p:nvPr/>
          </p:nvSpPr>
          <p:spPr>
            <a:xfrm rot="2673000">
              <a:off x="5928840" y="4763880"/>
              <a:ext cx="315720" cy="282600"/>
            </a:xfrm>
            <a:prstGeom prst="pie">
              <a:avLst/>
            </a:prstGeom>
            <a:solidFill>
              <a:srgbClr val="bd0d8f"/>
            </a:solidFill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3" name="Группа 56"/>
            <p:cNvGrpSpPr/>
            <p:nvPr/>
          </p:nvGrpSpPr>
          <p:grpSpPr>
            <a:xfrm>
              <a:off x="6018480" y="4453560"/>
              <a:ext cx="861120" cy="1928160"/>
              <a:chOff x="6018480" y="4453560"/>
              <a:chExt cx="861120" cy="1928160"/>
            </a:xfrm>
          </p:grpSpPr>
          <p:sp>
            <p:nvSpPr>
              <p:cNvPr id="384" name="Овал 47"/>
              <p:cNvSpPr/>
              <p:nvPr/>
            </p:nvSpPr>
            <p:spPr>
              <a:xfrm>
                <a:off x="6304320" y="4836960"/>
                <a:ext cx="214560" cy="2142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Капля 48"/>
              <p:cNvSpPr/>
              <p:nvPr/>
            </p:nvSpPr>
            <p:spPr>
              <a:xfrm rot="5913000">
                <a:off x="6089760" y="455256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Капля 49"/>
              <p:cNvSpPr/>
              <p:nvPr/>
            </p:nvSpPr>
            <p:spPr>
              <a:xfrm rot="9324000">
                <a:off x="6393600" y="45000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Капля 50"/>
              <p:cNvSpPr/>
              <p:nvPr/>
            </p:nvSpPr>
            <p:spPr>
              <a:xfrm rot="13068600">
                <a:off x="6536880" y="47862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Капля 51"/>
              <p:cNvSpPr/>
              <p:nvPr/>
            </p:nvSpPr>
            <p:spPr>
              <a:xfrm rot="16804200">
                <a:off x="6393960" y="500040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Капля 52"/>
              <p:cNvSpPr/>
              <p:nvPr/>
            </p:nvSpPr>
            <p:spPr>
              <a:xfrm rot="21001200">
                <a:off x="6040440" y="5005080"/>
                <a:ext cx="31572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Полилиния 54"/>
              <p:cNvSpPr/>
              <p:nvPr/>
            </p:nvSpPr>
            <p:spPr>
              <a:xfrm>
                <a:off x="6367320" y="4922640"/>
                <a:ext cx="61560" cy="1459080"/>
              </a:xfrm>
              <a:prstGeom prst="pie">
                <a:avLst/>
              </a:prstGeom>
              <a:noFill/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1" name="Группа 72"/>
          <p:cNvGrpSpPr/>
          <p:nvPr/>
        </p:nvGrpSpPr>
        <p:grpSpPr>
          <a:xfrm>
            <a:off x="2273400" y="2050920"/>
            <a:ext cx="2318760" cy="3071880"/>
            <a:chOff x="2273400" y="2050920"/>
            <a:chExt cx="2318760" cy="3071880"/>
          </a:xfrm>
        </p:grpSpPr>
        <p:sp>
          <p:nvSpPr>
            <p:cNvPr id="392" name="Овал 76"/>
            <p:cNvSpPr/>
            <p:nvPr/>
          </p:nvSpPr>
          <p:spPr>
            <a:xfrm>
              <a:off x="3084840" y="2408040"/>
              <a:ext cx="642600" cy="571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Капля 62"/>
            <p:cNvSpPr/>
            <p:nvPr/>
          </p:nvSpPr>
          <p:spPr>
            <a:xfrm rot="4654800">
              <a:off x="2285640" y="251964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Правильный пятиугольник 77"/>
            <p:cNvSpPr/>
            <p:nvPr/>
          </p:nvSpPr>
          <p:spPr>
            <a:xfrm>
              <a:off x="3084840" y="2979360"/>
              <a:ext cx="642600" cy="428400"/>
            </a:xfrm>
            <a:prstGeom prst="pentagon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Овал 78"/>
            <p:cNvSpPr/>
            <p:nvPr/>
          </p:nvSpPr>
          <p:spPr>
            <a:xfrm>
              <a:off x="2870280" y="3408120"/>
              <a:ext cx="1071360" cy="1000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Овал 79"/>
            <p:cNvSpPr/>
            <p:nvPr/>
          </p:nvSpPr>
          <p:spPr>
            <a:xfrm>
              <a:off x="3156120" y="2479320"/>
              <a:ext cx="214200" cy="2142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Овал 80"/>
            <p:cNvSpPr/>
            <p:nvPr/>
          </p:nvSpPr>
          <p:spPr>
            <a:xfrm>
              <a:off x="3441960" y="2479320"/>
              <a:ext cx="214200" cy="2142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Овал 81"/>
            <p:cNvSpPr/>
            <p:nvPr/>
          </p:nvSpPr>
          <p:spPr>
            <a:xfrm>
              <a:off x="3370320" y="269352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Капля 82"/>
            <p:cNvSpPr/>
            <p:nvPr/>
          </p:nvSpPr>
          <p:spPr>
            <a:xfrm rot="10800000">
              <a:off x="3727080" y="247932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Капля 84"/>
            <p:cNvSpPr/>
            <p:nvPr/>
          </p:nvSpPr>
          <p:spPr>
            <a:xfrm rot="15166800">
              <a:off x="3695400" y="3279960"/>
              <a:ext cx="857160" cy="7142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Арка 85"/>
            <p:cNvSpPr/>
            <p:nvPr/>
          </p:nvSpPr>
          <p:spPr>
            <a:xfrm rot="19792800">
              <a:off x="2448360" y="3097440"/>
              <a:ext cx="785520" cy="42732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Арка 86"/>
            <p:cNvSpPr/>
            <p:nvPr/>
          </p:nvSpPr>
          <p:spPr>
            <a:xfrm flipV="1" rot="15698400">
              <a:off x="3342960" y="3397680"/>
              <a:ext cx="785880" cy="43236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Фигура, имеющая форму буквы L 87"/>
            <p:cNvSpPr/>
            <p:nvPr/>
          </p:nvSpPr>
          <p:spPr>
            <a:xfrm>
              <a:off x="3656160" y="4336920"/>
              <a:ext cx="142560" cy="78588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Фигура, имеющая форму буквы L 88"/>
            <p:cNvSpPr/>
            <p:nvPr/>
          </p:nvSpPr>
          <p:spPr>
            <a:xfrm flipH="1">
              <a:off x="3013200" y="4336920"/>
              <a:ext cx="142560" cy="785880"/>
            </a:xfrm>
            <a:prstGeom prst="pi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Овал 89"/>
            <p:cNvSpPr/>
            <p:nvPr/>
          </p:nvSpPr>
          <p:spPr>
            <a:xfrm>
              <a:off x="2394000" y="3429360"/>
              <a:ext cx="285480" cy="2142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Овал 90"/>
            <p:cNvSpPr/>
            <p:nvPr/>
          </p:nvSpPr>
          <p:spPr>
            <a:xfrm>
              <a:off x="3608280" y="39081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Молния 91"/>
            <p:cNvSpPr/>
            <p:nvPr/>
          </p:nvSpPr>
          <p:spPr>
            <a:xfrm rot="19903800">
              <a:off x="3127320" y="2214720"/>
              <a:ext cx="759960" cy="27072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Месяц 92"/>
            <p:cNvSpPr/>
            <p:nvPr/>
          </p:nvSpPr>
          <p:spPr>
            <a:xfrm rot="16027200">
              <a:off x="3291840" y="2666880"/>
              <a:ext cx="178560" cy="39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1574 0.01423 -0.03194 0.01892 -0.05093 C 0.02118 -0.07176 0.02621 -0.0912 0.0309 -0.11134 C 0.03836 -0.14213 0.04062 -0.17732 0.05225 -0.20648 C 0.06319 -0.23426 0.07413 -0.26065 0.0868 -0.2875 C 0.09861 -0.31181 0.11319 -0.33704 0.13211 -0.35255 C 0.14878 -0.3662 0.17013 -0.36921 0.18923 -0.37153 C 0.20989 -0.37037 0.23055 -0.37107 0.25104 -0.36829 C 0.26614 -0.3662 0.28125 -0.3463 0.28923 -0.33032 C 0.30954 -0.28982 0.31597 -0.24421 0.32725 -0.19838 C 0.33003 -0.15301 0.32795 -0.17176 0.33211 -0.14144 C 0.32725 -0.11597 0.32882 -0.08796 0.32013 -0.06366 C 0.31788 -0.05718 0.3052 -0.025 0.30225 -0.0206 C 0.2993 -0.01597 0.29496 -0.01366 0.29166 -0.00949 C 0.28854 -0.00579 0.28645 -0.00069 0.28333 0.00301 C 0.26562 0.02361 0.24149 0.03287 0.21892 0.03796 C 0.18142 0.03264 0.17118 0.01528 0.14166 -0.01435 C 0.09062 -0.06528 0.1625 0.01412 0.07725 -0.08426 C 0.07534 -0.08657 0.03698 -0.13449 0.02847 -0.14931 C 0.02204 -0.16042 0.00937 -0.18264 0.00937 -0.18264 C 0.00816 -0.18681 0.00729 -0.1912 0.0059 -0.19537 C 0.00451 -0.19931 0.00225 -0.20255 0.00104 -0.20648 C -0.00139 -0.21528 -0.00243 -0.22732 -0.00365 -0.23657 C -0.00243 -0.25301 -0.00261 -0.26968 0 -0.28588 C 0.00312 -0.30486 0.00781 -0.32292 0.0118 -0.34144 C 0.01441 -0.3537 0.01475 -0.35857 0.02013 -0.36829 C 0.021 -0.37153 0.02239 -0.37963 0.025 -0.38264 C 0.02638 -0.38426 0.02829 -0.38426 0.02968 -0.38588 C 0.04062 -0.39815 0.04513 -0.40718 0.05937 -0.41111 C 0.0684 -0.41829 0.07621 -0.41782 0.0868 -0.41921 C 0.11545 -0.41875 0.14392 -0.41875 0.17257 -0.41759 C 0.18177 -0.41713 0.2 -0.41435 0.2 -0.41435 C 0.21128 -0.41088 0.22326 -0.40787 0.23437 -0.40324 C 0.24236 -0.39977 0.24878 -0.3956 0.25711 -0.39375 C 0.2684 -0.38449 0.28229 -0.38009 0.29392 -0.37153 C 0.32604 -0.34769 0.29513 -0.36644 0.31666 -0.35394 C 0.32257 -0.34607 0.32187 -0.34769 0.32604 -0.33982 C 0.32847 -0.33519 0.33333 -0.32546 0.33333 -0.32546 C 0.33541 -0.30718 0.33993 -0.28958 0.3427 -0.27153 C 0.34548 -0.2287 0.34878 -0.18889 0.33923 -0.14607 C 0.33524 -0.12801 0.33055 -0.11157 0.32135 -0.09699 C 0.31701 -0.09005 0.30833 -0.07616 0.30833 -0.07616 C 0.30434 -0.06343 0.29809 -0.05949 0.29045 -0.05093 C 0.28125 -0.04051 0.27239 -0.02963 0.26302 -0.01921 C 0.25885 -0.01458 0.25295 -0.01296 0.24878 -0.0081 C 0.24166 0.000229999999999999 0.23993 0.00278 0.23211 0.00949 C 0.22152 0.01852 0.2092 0.02662 0.2 0.03796 C 0.18576 0.05579 0.1684 0.07546 0.15833 0.09838 C 0.1559 0.10417 0.15347 0.10995 0.15104 0.11574 C 0.14878 0.12083 0.14513 0.13171 0.14513 0.13171 C 0.14375 0.14236 0.14062 0.15116 0.13923 0.16181 C 0.13958 0.18194 0.13836 0.20231 0.14045 0.22222 C 0.14236 0.2412 0.14635 0.23704 0.15225 0.24745 C 0.16475 0.26875 0.17934 0.27917 0.19878 0.28542 C 0.20729 0.29352 0.21927 0.28657 0.22847 0.28403 C 0.2375 0.27801 0.24757 0.27292 0.2559 0.26505 C 0.26597 0.25532 0.26909 0.24815 0.2809 0.23935 C 0.29323 0.21898 0.27743 0.24398 0.29166 0.22523 C 0.29635 0.21898 0.29948 0.20972 0.30347 0.20278 C 0.30555 0.19259 0.3052 0.1838 0.30937 0.17454 C 0.31336 0.13194 0.33402 0.10046 0.3559 0.0713 C 0.36614 0.05764 0.37743 0.04444 0.39166 0.03958 C 0.39687 0.04005 0.40225 0.03912 0.40711 0.0412 C 0.41024 0.04259 0.41388 0.06389 0.41666 0.06829 C 0.42204 0.07731 0.4302 0.08611 0.43802 0.09051 C 0.44184 0.09537 0.44722 0.09768 0.45104 0.10301 C 0.45763 0.11181 0.46475 0.11667 0.47378 0.1206 C 0.50972 0.11829 0.54635 0.10718 0.57847 0.08403 C 0.59149 0.07454 0.60382 0.06296 0.6177 0.05556 C 0.67222 0.02662 0.71632 -0.00301 0.775 -0.01435 C 0.78107 -0.01713 0.78541 -0.01921 0.79166 -0.01921 E">
                                      <p:cBhvr>
                                        <p:cTn id="253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1574 0.01423 -0.03194 0.01892 -0.05093 C 0.02118 -0.07176 0.02621 -0.0912 0.0309 -0.11134 C 0.03836 -0.14213 0.04062 -0.17732 0.05225 -0.20648 C 0.06319 -0.23426 0.07413 -0.26065 0.0868 -0.2875 C 0.09861 -0.31181 0.11319 -0.33704 0.13211 -0.35255 C 0.14878 -0.3662 0.17013 -0.36921 0.18923 -0.37153 C 0.20989 -0.37037 0.23055 -0.37107 0.25104 -0.36829 C 0.26614 -0.3662 0.28125 -0.3463 0.28923 -0.33032 C 0.30954 -0.28982 0.31597 -0.24421 0.32725 -0.19838 C 0.33003 -0.15301 0.32795 -0.17176 0.33211 -0.14144 C 0.32725 -0.11597 0.32882 -0.08796 0.32013 -0.06366 C 0.31788 -0.05718 0.3052 -0.025 0.30225 -0.0206 C 0.2993 -0.01597 0.29496 -0.01366 0.29166 -0.00949 C 0.28854 -0.00579 0.28645 -0.00069 0.28333 0.00301 C 0.26562 0.02361 0.24149 0.03287 0.21892 0.03796 C 0.18142 0.03264 0.17118 0.01528 0.14166 -0.01435 C 0.09062 -0.06528 0.1625 0.01412 0.07725 -0.08426 C 0.07534 -0.08657 0.03698 -0.13449 0.02847 -0.14931 C 0.02204 -0.16042 0.00937 -0.18264 0.00937 -0.18264 C 0.00816 -0.18681 0.00729 -0.1912 0.0059 -0.19537 C 0.00451 -0.19931 0.00225 -0.20255 0.00104 -0.20648 C -0.00139 -0.21528 -0.00243 -0.22732 -0.00365 -0.23657 C -0.00243 -0.25301 -0.00261 -0.26968 0 -0.28588 C 0.00312 -0.30486 0.00781 -0.32292 0.0118 -0.34144 C 0.01441 -0.3537 0.01475 -0.35857 0.02013 -0.36829 C 0.021 -0.37153 0.02239 -0.37963 0.025 -0.38264 C 0.02638 -0.38426 0.02829 -0.38426 0.02968 -0.38588 C 0.04062 -0.39815 0.04513 -0.40718 0.05937 -0.41111 C 0.0684 -0.41829 0.07621 -0.41782 0.0868 -0.41921 C 0.11545 -0.41875 0.14392 -0.41875 0.17257 -0.41759 C 0.18177 -0.41713 0.2 -0.41435 0.2 -0.41435 C 0.21128 -0.41088 0.22326 -0.40787 0.23437 -0.40324 C 0.24236 -0.39977 0.24878 -0.3956 0.25711 -0.39375 C 0.2684 -0.38449 0.28229 -0.38009 0.29392 -0.37153 C 0.32604 -0.34769 0.29513 -0.36644 0.31666 -0.35394 C 0.32257 -0.34607 0.32187 -0.34769 0.32604 -0.33982 C 0.32847 -0.33519 0.33333 -0.32546 0.33333 -0.32546 C 0.33541 -0.30718 0.33993 -0.28958 0.3427 -0.27153 C 0.34548 -0.2287 0.34878 -0.18889 0.33923 -0.14607 C 0.33524 -0.12801 0.33055 -0.11157 0.32135 -0.09699 C 0.31701 -0.09005 0.30833 -0.07616 0.30833 -0.07616 C 0.30434 -0.06343 0.29809 -0.05949 0.29045 -0.05093 C 0.28125 -0.04051 0.27239 -0.02963 0.26302 -0.01921 C 0.25885 -0.01458 0.25295 -0.01296 0.24878 -0.0081 C 0.24166 0.000229999999999999 0.23993 0.00278 0.23211 0.00949 C 0.22152 0.01852 0.2092 0.02662 0.2 0.03796 C 0.18576 0.05579 0.1684 0.07546 0.15833 0.09838 C 0.1559 0.10417 0.15347 0.10995 0.15104 0.11574 C 0.14878 0.12083 0.14513 0.13171 0.14513 0.13171 C 0.14375 0.14236 0.14062 0.15116 0.13923 0.16181 C 0.13958 0.18194 0.13836 0.20231 0.14045 0.22222 C 0.14236 0.2412 0.14635 0.23704 0.15225 0.24745 C 0.16475 0.26875 0.17934 0.27917 0.19878 0.28542 C 0.20729 0.29352 0.21927 0.28657 0.22847 0.28403 C 0.2375 0.27801 0.24757 0.27292 0.2559 0.26505 C 0.26597 0.25532 0.26909 0.24815 0.2809 0.23935 C 0.29323 0.21898 0.27743 0.24398 0.29166 0.22523 C 0.29635 0.21898 0.29948 0.20972 0.30347 0.20278 C 0.30555 0.19259 0.3052 0.1838 0.30937 0.17454 C 0.31336 0.13194 0.33402 0.10046 0.3559 0.0713 C 0.36614 0.05764 0.37743 0.04444 0.39166 0.03958 C 0.39687 0.04005 0.40225 0.03912 0.40711 0.0412 C 0.41024 0.04259 0.41388 0.06389 0.41666 0.06829 C 0.42204 0.07731 0.4302 0.08611 0.43802 0.09051 C 0.44184 0.09537 0.44722 0.09768 0.45104 0.10301 C 0.45763 0.11181 0.46475 0.11667 0.47378 0.1206 C 0.50972 0.11829 0.54635 0.10718 0.57847 0.08403 C 0.59149 0.07454 0.60382 0.06296 0.6177 0.05556 C 0.67222 0.02662 0.71632 -0.00301 0.775 -0.01435 C 0.78107 -0.01713 0.78541 -0.01921 0.79166 -0.01921 E">
                                      <p:cBhvr>
                                        <p:cTn id="255" dur="3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Группа 48"/>
          <p:cNvGrpSpPr/>
          <p:nvPr/>
        </p:nvGrpSpPr>
        <p:grpSpPr>
          <a:xfrm>
            <a:off x="357120" y="2286000"/>
            <a:ext cx="3667320" cy="3714840"/>
            <a:chOff x="357120" y="2286000"/>
            <a:chExt cx="3667320" cy="3714840"/>
          </a:xfrm>
        </p:grpSpPr>
        <p:sp>
          <p:nvSpPr>
            <p:cNvPr id="410" name="Овал 49"/>
            <p:cNvSpPr/>
            <p:nvPr/>
          </p:nvSpPr>
          <p:spPr>
            <a:xfrm>
              <a:off x="357120" y="3028680"/>
              <a:ext cx="3667320" cy="297216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Овал 50"/>
            <p:cNvSpPr/>
            <p:nvPr/>
          </p:nvSpPr>
          <p:spPr>
            <a:xfrm>
              <a:off x="764640" y="3400560"/>
              <a:ext cx="1222560" cy="1114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Овал 51"/>
            <p:cNvSpPr/>
            <p:nvPr/>
          </p:nvSpPr>
          <p:spPr>
            <a:xfrm>
              <a:off x="2394360" y="3400560"/>
              <a:ext cx="1222560" cy="1114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Овал 52"/>
            <p:cNvSpPr/>
            <p:nvPr/>
          </p:nvSpPr>
          <p:spPr>
            <a:xfrm>
              <a:off x="1987200" y="4515120"/>
              <a:ext cx="407160" cy="371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Облако 53"/>
            <p:cNvSpPr/>
            <p:nvPr/>
          </p:nvSpPr>
          <p:spPr>
            <a:xfrm>
              <a:off x="1172160" y="2286000"/>
              <a:ext cx="2037240" cy="111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Полилиния 54"/>
            <p:cNvSpPr/>
            <p:nvPr/>
          </p:nvSpPr>
          <p:spPr>
            <a:xfrm>
              <a:off x="1319400" y="4996080"/>
              <a:ext cx="1572840" cy="51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Группа 9"/>
          <p:cNvGrpSpPr/>
          <p:nvPr/>
        </p:nvGrpSpPr>
        <p:grpSpPr>
          <a:xfrm>
            <a:off x="4572000" y="1204920"/>
            <a:ext cx="4661280" cy="5081760"/>
            <a:chOff x="4572000" y="1204920"/>
            <a:chExt cx="4661280" cy="5081760"/>
          </a:xfrm>
        </p:grpSpPr>
        <p:sp>
          <p:nvSpPr>
            <p:cNvPr id="417" name="Овал 56"/>
            <p:cNvSpPr/>
            <p:nvPr/>
          </p:nvSpPr>
          <p:spPr>
            <a:xfrm>
              <a:off x="4572000" y="3190320"/>
              <a:ext cx="3661560" cy="3096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Овал 57"/>
            <p:cNvSpPr/>
            <p:nvPr/>
          </p:nvSpPr>
          <p:spPr>
            <a:xfrm>
              <a:off x="4978800" y="357732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Овал 58"/>
            <p:cNvSpPr/>
            <p:nvPr/>
          </p:nvSpPr>
          <p:spPr>
            <a:xfrm>
              <a:off x="6606360" y="357732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Овал 59"/>
            <p:cNvSpPr/>
            <p:nvPr/>
          </p:nvSpPr>
          <p:spPr>
            <a:xfrm>
              <a:off x="6199200" y="4738680"/>
              <a:ext cx="406800" cy="3870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Молния 60"/>
            <p:cNvSpPr/>
            <p:nvPr/>
          </p:nvSpPr>
          <p:spPr>
            <a:xfrm rot="19903800">
              <a:off x="4813920" y="2142720"/>
              <a:ext cx="4330080" cy="14666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Месяц 61"/>
            <p:cNvSpPr/>
            <p:nvPr/>
          </p:nvSpPr>
          <p:spPr>
            <a:xfrm rot="16027200">
              <a:off x="5777280" y="4538160"/>
              <a:ext cx="967320" cy="224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3" name="Прямоугольник 62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387216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4" descr=""/>
          <p:cNvPicPr/>
          <p:nvPr/>
        </p:nvPicPr>
        <p:blipFill>
          <a:blip r:embed="rId1"/>
          <a:stretch/>
        </p:blipFill>
        <p:spPr>
          <a:xfrm>
            <a:off x="2023920" y="1616040"/>
            <a:ext cx="524844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944640" y="603360"/>
            <a:ext cx="655308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311040" y="5535720"/>
            <a:ext cx="87598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30"/>
          <p:cNvGrpSpPr/>
          <p:nvPr/>
        </p:nvGrpSpPr>
        <p:grpSpPr>
          <a:xfrm>
            <a:off x="3117960" y="2071800"/>
            <a:ext cx="2509200" cy="2857320"/>
            <a:chOff x="3117960" y="2071800"/>
            <a:chExt cx="2509200" cy="2857320"/>
          </a:xfrm>
        </p:grpSpPr>
        <p:sp>
          <p:nvSpPr>
            <p:cNvPr id="47" name="Овал 6"/>
            <p:cNvSpPr/>
            <p:nvPr/>
          </p:nvSpPr>
          <p:spPr>
            <a:xfrm>
              <a:off x="4119480" y="2214360"/>
              <a:ext cx="642600" cy="57132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авильный пятиугольник 7"/>
            <p:cNvSpPr/>
            <p:nvPr/>
          </p:nvSpPr>
          <p:spPr>
            <a:xfrm>
              <a:off x="4119480" y="2786040"/>
              <a:ext cx="642600" cy="428400"/>
            </a:xfrm>
            <a:prstGeom prst="pentagon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Овал 8"/>
            <p:cNvSpPr/>
            <p:nvPr/>
          </p:nvSpPr>
          <p:spPr>
            <a:xfrm>
              <a:off x="3905280" y="3214800"/>
              <a:ext cx="1071360" cy="100008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Овал 9"/>
            <p:cNvSpPr/>
            <p:nvPr/>
          </p:nvSpPr>
          <p:spPr>
            <a:xfrm>
              <a:off x="4191120" y="228600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Овал 10"/>
            <p:cNvSpPr/>
            <p:nvPr/>
          </p:nvSpPr>
          <p:spPr>
            <a:xfrm>
              <a:off x="4476600" y="228600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Овал 11"/>
            <p:cNvSpPr/>
            <p:nvPr/>
          </p:nvSpPr>
          <p:spPr>
            <a:xfrm>
              <a:off x="4405320" y="250020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Капля 14"/>
            <p:cNvSpPr/>
            <p:nvPr/>
          </p:nvSpPr>
          <p:spPr>
            <a:xfrm rot="4654800">
              <a:off x="3274560" y="228060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Капля 15"/>
            <p:cNvSpPr/>
            <p:nvPr/>
          </p:nvSpPr>
          <p:spPr>
            <a:xfrm rot="10800000">
              <a:off x="4762080" y="228600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Капля 16"/>
            <p:cNvSpPr/>
            <p:nvPr/>
          </p:nvSpPr>
          <p:spPr>
            <a:xfrm rot="1212600">
              <a:off x="3214800" y="295776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Капля 17"/>
            <p:cNvSpPr/>
            <p:nvPr/>
          </p:nvSpPr>
          <p:spPr>
            <a:xfrm rot="15166800">
              <a:off x="4730400" y="308628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Облако 18"/>
            <p:cNvSpPr/>
            <p:nvPr/>
          </p:nvSpPr>
          <p:spPr>
            <a:xfrm>
              <a:off x="4262400" y="2071800"/>
              <a:ext cx="357120" cy="2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Арка 19"/>
            <p:cNvSpPr/>
            <p:nvPr/>
          </p:nvSpPr>
          <p:spPr>
            <a:xfrm rot="15002400">
              <a:off x="3633120" y="2371320"/>
              <a:ext cx="785520" cy="4284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Арка 21"/>
            <p:cNvSpPr/>
            <p:nvPr/>
          </p:nvSpPr>
          <p:spPr>
            <a:xfrm rot="6760800">
              <a:off x="4504680" y="2445480"/>
              <a:ext cx="785520" cy="4284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Фигура, имеющая форму буквы L 22"/>
            <p:cNvSpPr/>
            <p:nvPr/>
          </p:nvSpPr>
          <p:spPr>
            <a:xfrm>
              <a:off x="4691160" y="414360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Фигура, имеющая форму буквы L 23"/>
            <p:cNvSpPr/>
            <p:nvPr/>
          </p:nvSpPr>
          <p:spPr>
            <a:xfrm flipH="1">
              <a:off x="4048200" y="414360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олилиния 26"/>
            <p:cNvSpPr/>
            <p:nvPr/>
          </p:nvSpPr>
          <p:spPr>
            <a:xfrm>
              <a:off x="4288320" y="2592720"/>
              <a:ext cx="275760" cy="9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Овал 27"/>
            <p:cNvSpPr/>
            <p:nvPr/>
          </p:nvSpPr>
          <p:spPr>
            <a:xfrm>
              <a:off x="3834000" y="2071800"/>
              <a:ext cx="28548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Овал 28"/>
            <p:cNvSpPr/>
            <p:nvPr/>
          </p:nvSpPr>
          <p:spPr>
            <a:xfrm>
              <a:off x="4905360" y="2214360"/>
              <a:ext cx="21420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11111 C 0.02674 0.15162 0.02361 0.12454 0.02153 0.21736 C 0.02049 0.26296 0.02587 0.26435 0.01441 0.28889 C 0.0132 0.30625 0.01528 0.31597 0.00365 0.30301 C -0.00555 0.2794 -0.021 0.25463 -0.04045 0.24583 C -0.05034 0.23657 -0.06128 0.23218 -0.07135 0.22361 C -0.08385 0.21296 -0.07066 0.22083 -0.08333 0.21412 C -0.09218 0.20232 -0.10729 0.19514 -0.11892 0.18889 C -0.125 0.18565 -0.1309 0.18148 -0.1368 0.17778 C -0.1401 0.1757 -0.14409 0.17616 -0.14757 0.17454 C -0.16736 0.16597 -0.1875 0.15718 -0.20711 0.14745 C -0.22031 0.14097 -0.24357 0.12685 -0.25833 0.12685 C -0.25955 0.12685 -0.2559 0.12824 -0.25468 0.12847 C -0.25034 0.1294 -0.246 0.12963 -0.24166 0.13009 C -0.23646 0.13241 -0.23159 0.13495 -0.22604 0.13634 C -0.21475 0.1456 -0.19861 0.1544 -0.18559 0.15695 C -0.17812 0.16065 -0.17031 0.16366 -0.16302 0.16806 C -0.15538 0.17269 -0.14618 0.18195 -0.13802 0.18565 C -0.13368 0.19097 -0.13003 0.1912 -0.125 0.19514 C -0.11996 0.19907 -0.11632 0.20278 -0.11059 0.20463 C -0.09809 0.2132 -0.0842 0.21736 -0.07135 0.22523 C -0.06406 0.22986 -0.05781 0.23681 -0.05 0.23958 C -0.04479 0.24653 -0.03854 0.2463 -0.03211 0.2507 C -0.02604 0.25486 -0.02187 0.26204 -0.01545 0.26505 C -0.01076 0.28287 0.00521 0.29421 0.01789 0.3 C 0.02466 0.27315 0.03507 0.26829 0.05243 0.25394 C 0.08073 0.23056 0.04618 0.25671 0.0691 0.23634 C 0.08368 0.22338 0.09948 0.2132 0.11302 0.19838 C 0.14966 0.15857 0.19202 0.10139 0.23455 0.07616 C 0.26945 0.05556 0.30087 0.03843 0.33698 0.02523 C 0.35209 0.01968 0.36667 0.01088 0.38229 0.00787 C 0.39393 0.00556 0.43143 0.00301 0.43229 0.00301 C 0.41684 -0.00648 0.40417 -0.01018 0.38698 -0.01921 C 0.37396 -0.02616 0.36129 -0.03495 0.34775 -0.03981 C 0.32448 -0.04838 0.3 -0.04884 0.27622 -0.05417 C 0.20313 -0.05231 0.13039 -0.05602 0.05729 -0.05255 C 0.04202 -0.04444 0.03559 -0.03935 0.02275 -0.02708 C 0.01563 -0.02037 0.01094 -0.01018 0.00243 -0.00648 C -0.00017 -0.00116 -3.05556E-006 -0.00347 -3.05556E-006 -7.40741E-007 E"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390600"/>
            <a:ext cx="7351560" cy="110952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58"/>
          <p:cNvGrpSpPr/>
          <p:nvPr/>
        </p:nvGrpSpPr>
        <p:grpSpPr>
          <a:xfrm>
            <a:off x="260280" y="2214720"/>
            <a:ext cx="2509200" cy="2857320"/>
            <a:chOff x="260280" y="2214720"/>
            <a:chExt cx="2509200" cy="2857320"/>
          </a:xfrm>
        </p:grpSpPr>
        <p:sp>
          <p:nvSpPr>
            <p:cNvPr id="67" name="Овал 7"/>
            <p:cNvSpPr/>
            <p:nvPr/>
          </p:nvSpPr>
          <p:spPr>
            <a:xfrm>
              <a:off x="1262160" y="2357280"/>
              <a:ext cx="642960" cy="57132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равильный пятиугольник 8"/>
            <p:cNvSpPr/>
            <p:nvPr/>
          </p:nvSpPr>
          <p:spPr>
            <a:xfrm>
              <a:off x="1262160" y="2928960"/>
              <a:ext cx="642960" cy="428400"/>
            </a:xfrm>
            <a:prstGeom prst="pentagon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Овал 9"/>
            <p:cNvSpPr/>
            <p:nvPr/>
          </p:nvSpPr>
          <p:spPr>
            <a:xfrm>
              <a:off x="1047600" y="3357720"/>
              <a:ext cx="1071720" cy="100008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Овал 10"/>
            <p:cNvSpPr/>
            <p:nvPr/>
          </p:nvSpPr>
          <p:spPr>
            <a:xfrm>
              <a:off x="133344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Овал 11"/>
            <p:cNvSpPr/>
            <p:nvPr/>
          </p:nvSpPr>
          <p:spPr>
            <a:xfrm>
              <a:off x="161928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Овал 12"/>
            <p:cNvSpPr/>
            <p:nvPr/>
          </p:nvSpPr>
          <p:spPr>
            <a:xfrm>
              <a:off x="1548000" y="264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Капля 13"/>
            <p:cNvSpPr/>
            <p:nvPr/>
          </p:nvSpPr>
          <p:spPr>
            <a:xfrm rot="4654800">
              <a:off x="416880" y="24235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Капля 14"/>
            <p:cNvSpPr/>
            <p:nvPr/>
          </p:nvSpPr>
          <p:spPr>
            <a:xfrm rot="10800000">
              <a:off x="1904760" y="24289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Капля 15"/>
            <p:cNvSpPr/>
            <p:nvPr/>
          </p:nvSpPr>
          <p:spPr>
            <a:xfrm rot="1212600">
              <a:off x="357120" y="310068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Капля 16"/>
            <p:cNvSpPr/>
            <p:nvPr/>
          </p:nvSpPr>
          <p:spPr>
            <a:xfrm rot="15166800">
              <a:off x="1872720" y="322920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Облако 17"/>
            <p:cNvSpPr/>
            <p:nvPr/>
          </p:nvSpPr>
          <p:spPr>
            <a:xfrm>
              <a:off x="1405080" y="2214720"/>
              <a:ext cx="357120" cy="2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Арка 18"/>
            <p:cNvSpPr/>
            <p:nvPr/>
          </p:nvSpPr>
          <p:spPr>
            <a:xfrm rot="13520400">
              <a:off x="678600" y="2644200"/>
              <a:ext cx="785520" cy="4284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Арка 19"/>
            <p:cNvSpPr/>
            <p:nvPr/>
          </p:nvSpPr>
          <p:spPr>
            <a:xfrm flipV="1" rot="15698400">
              <a:off x="1520640" y="3346560"/>
              <a:ext cx="785520" cy="4320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Фигура, имеющая форму буквы L 20"/>
            <p:cNvSpPr/>
            <p:nvPr/>
          </p:nvSpPr>
          <p:spPr>
            <a:xfrm>
              <a:off x="183348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Фигура, имеющая форму буквы L 21"/>
            <p:cNvSpPr/>
            <p:nvPr/>
          </p:nvSpPr>
          <p:spPr>
            <a:xfrm flipH="1">
              <a:off x="119052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олилиния 22"/>
            <p:cNvSpPr/>
            <p:nvPr/>
          </p:nvSpPr>
          <p:spPr>
            <a:xfrm>
              <a:off x="1430640" y="2735640"/>
              <a:ext cx="275760" cy="9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Овал 23"/>
            <p:cNvSpPr/>
            <p:nvPr/>
          </p:nvSpPr>
          <p:spPr>
            <a:xfrm>
              <a:off x="642600" y="2428920"/>
              <a:ext cx="28548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Овал 24"/>
            <p:cNvSpPr/>
            <p:nvPr/>
          </p:nvSpPr>
          <p:spPr>
            <a:xfrm>
              <a:off x="1785960" y="3857760"/>
              <a:ext cx="21420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Солнце 25"/>
          <p:cNvSpPr/>
          <p:nvPr/>
        </p:nvSpPr>
        <p:spPr>
          <a:xfrm>
            <a:off x="6715080" y="357120"/>
            <a:ext cx="2286000" cy="235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лилиния 27"/>
          <p:cNvSpPr/>
          <p:nvPr/>
        </p:nvSpPr>
        <p:spPr>
          <a:xfrm>
            <a:off x="312840" y="5357880"/>
            <a:ext cx="8831160" cy="103824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Группа 36"/>
          <p:cNvGrpSpPr/>
          <p:nvPr/>
        </p:nvGrpSpPr>
        <p:grpSpPr>
          <a:xfrm>
            <a:off x="6303960" y="4381920"/>
            <a:ext cx="1004400" cy="1928520"/>
            <a:chOff x="6303960" y="4381920"/>
            <a:chExt cx="1004400" cy="1928520"/>
          </a:xfrm>
        </p:grpSpPr>
        <p:sp>
          <p:nvSpPr>
            <p:cNvPr id="88" name="Овал 28"/>
            <p:cNvSpPr/>
            <p:nvPr/>
          </p:nvSpPr>
          <p:spPr>
            <a:xfrm>
              <a:off x="6733080" y="4765320"/>
              <a:ext cx="21456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Капля 29"/>
            <p:cNvSpPr/>
            <p:nvPr/>
          </p:nvSpPr>
          <p:spPr>
            <a:xfrm rot="5913000">
              <a:off x="6518520" y="448092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Капля 30"/>
            <p:cNvSpPr/>
            <p:nvPr/>
          </p:nvSpPr>
          <p:spPr>
            <a:xfrm rot="9324000">
              <a:off x="6822360" y="442836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Капля 31"/>
            <p:cNvSpPr/>
            <p:nvPr/>
          </p:nvSpPr>
          <p:spPr>
            <a:xfrm rot="13068600">
              <a:off x="6965640" y="471456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Капля 32"/>
            <p:cNvSpPr/>
            <p:nvPr/>
          </p:nvSpPr>
          <p:spPr>
            <a:xfrm rot="16804200">
              <a:off x="6823080" y="492876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Капля 33"/>
            <p:cNvSpPr/>
            <p:nvPr/>
          </p:nvSpPr>
          <p:spPr>
            <a:xfrm rot="21001200">
              <a:off x="6469200" y="493344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Капля 34"/>
            <p:cNvSpPr/>
            <p:nvPr/>
          </p:nvSpPr>
          <p:spPr>
            <a:xfrm rot="2673000">
              <a:off x="6357600" y="469224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Полилиния 35"/>
            <p:cNvSpPr/>
            <p:nvPr/>
          </p:nvSpPr>
          <p:spPr>
            <a:xfrm>
              <a:off x="6796080" y="485100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Группа 55"/>
          <p:cNvGrpSpPr/>
          <p:nvPr/>
        </p:nvGrpSpPr>
        <p:grpSpPr>
          <a:xfrm>
            <a:off x="4375080" y="4524840"/>
            <a:ext cx="1004400" cy="1928520"/>
            <a:chOff x="4375080" y="4524840"/>
            <a:chExt cx="1004400" cy="1928520"/>
          </a:xfrm>
        </p:grpSpPr>
        <p:sp>
          <p:nvSpPr>
            <p:cNvPr id="97" name="Овал 38"/>
            <p:cNvSpPr/>
            <p:nvPr/>
          </p:nvSpPr>
          <p:spPr>
            <a:xfrm>
              <a:off x="4804200" y="4908240"/>
              <a:ext cx="21456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Капля 39"/>
            <p:cNvSpPr/>
            <p:nvPr/>
          </p:nvSpPr>
          <p:spPr>
            <a:xfrm rot="5913000">
              <a:off x="4589640" y="4623840"/>
              <a:ext cx="285840" cy="282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Капля 40"/>
            <p:cNvSpPr/>
            <p:nvPr/>
          </p:nvSpPr>
          <p:spPr>
            <a:xfrm rot="9324000">
              <a:off x="4893480" y="4571280"/>
              <a:ext cx="28584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Капля 41"/>
            <p:cNvSpPr/>
            <p:nvPr/>
          </p:nvSpPr>
          <p:spPr>
            <a:xfrm rot="13068600">
              <a:off x="5036760" y="4857480"/>
              <a:ext cx="28584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Капля 42"/>
            <p:cNvSpPr/>
            <p:nvPr/>
          </p:nvSpPr>
          <p:spPr>
            <a:xfrm rot="16804200">
              <a:off x="4894200" y="5071680"/>
              <a:ext cx="285840" cy="282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Капля 43"/>
            <p:cNvSpPr/>
            <p:nvPr/>
          </p:nvSpPr>
          <p:spPr>
            <a:xfrm rot="21001200">
              <a:off x="4540320" y="5076360"/>
              <a:ext cx="31572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Капля 44"/>
            <p:cNvSpPr/>
            <p:nvPr/>
          </p:nvSpPr>
          <p:spPr>
            <a:xfrm rot="2673000">
              <a:off x="4428720" y="4835160"/>
              <a:ext cx="31572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олилиния 45"/>
            <p:cNvSpPr/>
            <p:nvPr/>
          </p:nvSpPr>
          <p:spPr>
            <a:xfrm>
              <a:off x="4867200" y="499392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57"/>
          <p:cNvGrpSpPr/>
          <p:nvPr/>
        </p:nvGrpSpPr>
        <p:grpSpPr>
          <a:xfrm>
            <a:off x="7661160" y="4381920"/>
            <a:ext cx="1004400" cy="1928520"/>
            <a:chOff x="7661160" y="4381920"/>
            <a:chExt cx="1004400" cy="1928520"/>
          </a:xfrm>
        </p:grpSpPr>
        <p:sp>
          <p:nvSpPr>
            <p:cNvPr id="106" name="Капля 53"/>
            <p:cNvSpPr/>
            <p:nvPr/>
          </p:nvSpPr>
          <p:spPr>
            <a:xfrm rot="2673000">
              <a:off x="7714800" y="4692240"/>
              <a:ext cx="315720" cy="282600"/>
            </a:xfrm>
            <a:prstGeom prst="pie">
              <a:avLst/>
            </a:prstGeom>
            <a:solidFill>
              <a:srgbClr val="bd0d8f"/>
            </a:solidFill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" name="Группа 56"/>
            <p:cNvGrpSpPr/>
            <p:nvPr/>
          </p:nvGrpSpPr>
          <p:grpSpPr>
            <a:xfrm>
              <a:off x="7804440" y="4381920"/>
              <a:ext cx="861120" cy="1928520"/>
              <a:chOff x="7804440" y="4381920"/>
              <a:chExt cx="861120" cy="1928520"/>
            </a:xfrm>
          </p:grpSpPr>
          <p:sp>
            <p:nvSpPr>
              <p:cNvPr id="108" name="Овал 47"/>
              <p:cNvSpPr/>
              <p:nvPr/>
            </p:nvSpPr>
            <p:spPr>
              <a:xfrm>
                <a:off x="8090280" y="4765320"/>
                <a:ext cx="214560" cy="2142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Капля 48"/>
              <p:cNvSpPr/>
              <p:nvPr/>
            </p:nvSpPr>
            <p:spPr>
              <a:xfrm rot="5913000">
                <a:off x="7875720" y="448092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Капля 49"/>
              <p:cNvSpPr/>
              <p:nvPr/>
            </p:nvSpPr>
            <p:spPr>
              <a:xfrm rot="9324000">
                <a:off x="8179560" y="442836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Капля 50"/>
              <p:cNvSpPr/>
              <p:nvPr/>
            </p:nvSpPr>
            <p:spPr>
              <a:xfrm rot="13068600">
                <a:off x="8322840" y="471456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Капля 51"/>
              <p:cNvSpPr/>
              <p:nvPr/>
            </p:nvSpPr>
            <p:spPr>
              <a:xfrm rot="16804200">
                <a:off x="8179920" y="492876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Капля 52"/>
              <p:cNvSpPr/>
              <p:nvPr/>
            </p:nvSpPr>
            <p:spPr>
              <a:xfrm rot="21001200">
                <a:off x="7826400" y="4933440"/>
                <a:ext cx="31572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Полилиния 54"/>
              <p:cNvSpPr/>
              <p:nvPr/>
            </p:nvSpPr>
            <p:spPr>
              <a:xfrm>
                <a:off x="8153280" y="4851000"/>
                <a:ext cx="61560" cy="1459440"/>
              </a:xfrm>
              <a:prstGeom prst="pie">
                <a:avLst/>
              </a:prstGeom>
              <a:noFill/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59259E-006 C 0.00225 -0.00879 -0.00053 -0.00162 0.00486 -0.00787 C 0.01267 -0.01713 0.01909 -0.02546 0.02864 -0.03171 C 0.03072 -0.04004 0.0467 -0.05555 0.05242 -0.06504 C 0.05364 -0.06713 0.05486 -0.06921 0.05607 -0.07153 C 0.05763 -0.07453 0.06076 -0.08102 0.06076 -0.08102 C 0.06232 -0.08865 0.06475 -0.0949 0.06788 -0.10162 C 0.07048 -0.11551 0.07326 -0.13727 0.08107 -0.14768 C 0.08298 -0.16041 0.08697 -0.17222 0.09062 -0.18426 C 0.09617 -0.20231 0.10052 -0.22384 0.11076 -0.23819 C 0.11232 -0.24421 0.11215 -0.24444 0.11562 -0.25092 C 0.11822 -0.25578 0.12395 -0.26504 0.12395 -0.26504 C 0.12517 -0.27268 0.13437 -0.29097 0.1394 -0.29537 C 0.14374 -0.3044 0.14722 -0.30926 0.15364 -0.31597 C 0.15867 -0.32893 0.15277 -0.31666 0.16076 -0.32546 C 0.16597 -0.33125 0.16354 -0.33403 0.17152 -0.33657 C 0.18055 -0.34514 0.18402 -0.34028 0.19774 -0.33819 C 0.20347 -0.33194 0.20763 -0.32916 0.2144 -0.32546 C 0.21892 -0.3206 0.22343 -0.31666 0.22742 -0.31111 C 0.23142 -0.29537 0.23263 -0.27778 0.22742 -0.26203 C 0.22534 -0.25532 0.22135 -0.2493 0.21909 -0.24282 C 0.21597 -0.23379 0.21406 -0.22315 0.21076 -0.21435 C 0.20902 -0.20995 0.20156 -0.19467 0.19895 -0.19051 C 0.19756 -0.18842 0.19548 -0.18773 0.19409 -0.18565 C 0.18506 -0.17268 0.17708 -0.15694 0.16909 -0.14282 C 0.16788 -0.1368 0.16701 -0.1324 0.1644 -0.12708 C 0.16354 -0.12291 0.16284 -0.11852 0.16197 -0.11435 C 0.16111 -0.11018 0.15954 -0.10162 0.15954 -0.10162 C 0.16024 -0.08981 0.16163 -0.06759 0.17031 -0.06041 C 0.17239 -0.05208 0.16996 -0.05833 0.17499 -0.05231 C 0.18663 -0.03819 0.18038 -0.0412 0.19531 -0.03819 C 0.20364 -0.04051 0.21197 -0.04051 0.22031 -0.04282 C 0.23038 -0.05185 0.22586 -0.04282 0.23576 -0.06041 C 0.23836 -0.06504 0.24062 -0.07615 0.24062 -0.07615 C 0.24114 -0.09143 0.2394 -0.10254 0.24531 -0.11435 C 0.24774 -0.11944 0.25086 -0.12384 0.25364 -0.1287 C 0.25486 -0.13078 0.25729 -0.13495 0.25729 -0.13495 C 0.25989 -0.15463 0.27031 -0.16504 0.28454 -0.1699 C 0.29774 -0.16736 0.29808 -0.16342 0.30486 -0.1493 C 0.30677 -0.14537 0.31076 -0.13819 0.31076 -0.13819 C 0.31354 -0.11273 0.31527 -0.08264 0.30364 -0.06041 C 0.30104 -0.05023 0.29861 -0.03935 0.29288 -0.03171 C 0.29149 -0.02639 0.2894 -0.02222 0.28697 -0.01759 C 0.28281 -0.000920000000000001 0.28611 0.01111 0.29774 0.01898 C 0.30208 0.02847 0.30763 0.02847 0.31562 0.0301 C 0.32308 0.0294 0.33281 0.0338 0.33819 0.02685 C 0.33906 0.0257 0.33871 0.02361 0.3394 0.02222 C 0.34253 0.0169 0.34652 0.01898 0.35121 0.01898 E">
                                      <p:cBhvr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Пятно 2 3"/>
          <p:cNvGrpSpPr/>
          <p:nvPr/>
        </p:nvGrpSpPr>
        <p:grpSpPr>
          <a:xfrm>
            <a:off x="-19080" y="-19080"/>
            <a:ext cx="9468000" cy="6821640"/>
            <a:chOff x="-19080" y="-19080"/>
            <a:chExt cx="9468000" cy="6821640"/>
          </a:xfrm>
        </p:grpSpPr>
        <p:pic>
          <p:nvPicPr>
            <p:cNvPr id="116" name="Пятно 2 3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468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344680" y="2004840"/>
              <a:ext cx="4046760" cy="30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2060"/>
                  </a:solidFill>
                  <a:latin typeface="Calibri"/>
                </a:rPr>
                <a:t>КАК ВДРУГ!!!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96840" y="390600"/>
            <a:ext cx="7126200" cy="2773440"/>
          </a:xfrm>
          <a:prstGeom prst="rect">
            <a:avLst/>
          </a:prstGeom>
          <a:ln w="0">
            <a:noFill/>
          </a:ln>
        </p:spPr>
      </p:pic>
      <p:grpSp>
        <p:nvGrpSpPr>
          <p:cNvPr id="119" name="Группа 94"/>
          <p:cNvGrpSpPr/>
          <p:nvPr/>
        </p:nvGrpSpPr>
        <p:grpSpPr>
          <a:xfrm>
            <a:off x="189000" y="2214720"/>
            <a:ext cx="2509200" cy="2857320"/>
            <a:chOff x="189000" y="2214720"/>
            <a:chExt cx="2509200" cy="2857320"/>
          </a:xfrm>
        </p:grpSpPr>
        <p:sp>
          <p:nvSpPr>
            <p:cNvPr id="120" name="Овал 7"/>
            <p:cNvSpPr/>
            <p:nvPr/>
          </p:nvSpPr>
          <p:spPr>
            <a:xfrm>
              <a:off x="1190520" y="2357280"/>
              <a:ext cx="642600" cy="57132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авильный пятиугольник 8"/>
            <p:cNvSpPr/>
            <p:nvPr/>
          </p:nvSpPr>
          <p:spPr>
            <a:xfrm>
              <a:off x="1190520" y="2928960"/>
              <a:ext cx="642600" cy="428400"/>
            </a:xfrm>
            <a:prstGeom prst="pentagon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Овал 9"/>
            <p:cNvSpPr/>
            <p:nvPr/>
          </p:nvSpPr>
          <p:spPr>
            <a:xfrm>
              <a:off x="976320" y="3357720"/>
              <a:ext cx="1071360" cy="100008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Овал 10"/>
            <p:cNvSpPr/>
            <p:nvPr/>
          </p:nvSpPr>
          <p:spPr>
            <a:xfrm>
              <a:off x="126216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Овал 11"/>
            <p:cNvSpPr/>
            <p:nvPr/>
          </p:nvSpPr>
          <p:spPr>
            <a:xfrm>
              <a:off x="1547640" y="24289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Овал 12"/>
            <p:cNvSpPr/>
            <p:nvPr/>
          </p:nvSpPr>
          <p:spPr>
            <a:xfrm>
              <a:off x="1476360" y="264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Капля 13"/>
            <p:cNvSpPr/>
            <p:nvPr/>
          </p:nvSpPr>
          <p:spPr>
            <a:xfrm rot="4654800">
              <a:off x="345600" y="24235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Капля 14"/>
            <p:cNvSpPr/>
            <p:nvPr/>
          </p:nvSpPr>
          <p:spPr>
            <a:xfrm rot="10800000">
              <a:off x="1833120" y="242892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Капля 15"/>
            <p:cNvSpPr/>
            <p:nvPr/>
          </p:nvSpPr>
          <p:spPr>
            <a:xfrm rot="1212600">
              <a:off x="285840" y="310068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Капля 16"/>
            <p:cNvSpPr/>
            <p:nvPr/>
          </p:nvSpPr>
          <p:spPr>
            <a:xfrm rot="15166800">
              <a:off x="1801440" y="3229200"/>
              <a:ext cx="857160" cy="714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Облако 17"/>
            <p:cNvSpPr/>
            <p:nvPr/>
          </p:nvSpPr>
          <p:spPr>
            <a:xfrm>
              <a:off x="1333440" y="2214720"/>
              <a:ext cx="357120" cy="2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Арка 18"/>
            <p:cNvSpPr/>
            <p:nvPr/>
          </p:nvSpPr>
          <p:spPr>
            <a:xfrm rot="13520400">
              <a:off x="607320" y="2644200"/>
              <a:ext cx="785520" cy="4284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Арка 19"/>
            <p:cNvSpPr/>
            <p:nvPr/>
          </p:nvSpPr>
          <p:spPr>
            <a:xfrm flipV="1" rot="15698400">
              <a:off x="1449360" y="3346560"/>
              <a:ext cx="785520" cy="43200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Фигура, имеющая форму буквы L 20"/>
            <p:cNvSpPr/>
            <p:nvPr/>
          </p:nvSpPr>
          <p:spPr>
            <a:xfrm>
              <a:off x="176220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Фигура, имеющая форму буквы L 21"/>
            <p:cNvSpPr/>
            <p:nvPr/>
          </p:nvSpPr>
          <p:spPr>
            <a:xfrm flipH="1">
              <a:off x="1119240" y="4286520"/>
              <a:ext cx="142560" cy="785520"/>
            </a:xfrm>
            <a:prstGeom prst="pi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олилиния 22"/>
            <p:cNvSpPr/>
            <p:nvPr/>
          </p:nvSpPr>
          <p:spPr>
            <a:xfrm>
              <a:off x="1359360" y="2735640"/>
              <a:ext cx="275760" cy="9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Овал 23"/>
            <p:cNvSpPr/>
            <p:nvPr/>
          </p:nvSpPr>
          <p:spPr>
            <a:xfrm>
              <a:off x="571320" y="2428920"/>
              <a:ext cx="28548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Овал 24"/>
            <p:cNvSpPr/>
            <p:nvPr/>
          </p:nvSpPr>
          <p:spPr>
            <a:xfrm>
              <a:off x="1714320" y="3857760"/>
              <a:ext cx="214200" cy="214200"/>
            </a:xfrm>
            <a:prstGeom prst="ellipse">
              <a:avLst/>
            </a:prstGeom>
            <a:solidFill>
              <a:srgbClr val="26ea4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Солнце 25"/>
          <p:cNvSpPr/>
          <p:nvPr/>
        </p:nvSpPr>
        <p:spPr>
          <a:xfrm>
            <a:off x="6715080" y="357120"/>
            <a:ext cx="2286000" cy="235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олилиния 27"/>
          <p:cNvSpPr/>
          <p:nvPr/>
        </p:nvSpPr>
        <p:spPr>
          <a:xfrm>
            <a:off x="312840" y="5357880"/>
            <a:ext cx="8831160" cy="103824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Группа 36"/>
          <p:cNvGrpSpPr/>
          <p:nvPr/>
        </p:nvGrpSpPr>
        <p:grpSpPr>
          <a:xfrm>
            <a:off x="4089240" y="4929480"/>
            <a:ext cx="1004400" cy="1928520"/>
            <a:chOff x="4089240" y="4929480"/>
            <a:chExt cx="1004400" cy="1928520"/>
          </a:xfrm>
        </p:grpSpPr>
        <p:sp>
          <p:nvSpPr>
            <p:cNvPr id="141" name="Овал 28"/>
            <p:cNvSpPr/>
            <p:nvPr/>
          </p:nvSpPr>
          <p:spPr>
            <a:xfrm>
              <a:off x="4518360" y="5312880"/>
              <a:ext cx="21456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Капля 29"/>
            <p:cNvSpPr/>
            <p:nvPr/>
          </p:nvSpPr>
          <p:spPr>
            <a:xfrm rot="5913000">
              <a:off x="4303800" y="502848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Капля 30"/>
            <p:cNvSpPr/>
            <p:nvPr/>
          </p:nvSpPr>
          <p:spPr>
            <a:xfrm rot="9324000">
              <a:off x="4607640" y="49759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Капля 31"/>
            <p:cNvSpPr/>
            <p:nvPr/>
          </p:nvSpPr>
          <p:spPr>
            <a:xfrm rot="13068600">
              <a:off x="4750920" y="5262120"/>
              <a:ext cx="28584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Капля 32"/>
            <p:cNvSpPr/>
            <p:nvPr/>
          </p:nvSpPr>
          <p:spPr>
            <a:xfrm rot="16804200">
              <a:off x="4608360" y="5476320"/>
              <a:ext cx="285840" cy="28296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Капля 33"/>
            <p:cNvSpPr/>
            <p:nvPr/>
          </p:nvSpPr>
          <p:spPr>
            <a:xfrm rot="21001200">
              <a:off x="4254480" y="54810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Капля 34"/>
            <p:cNvSpPr/>
            <p:nvPr/>
          </p:nvSpPr>
          <p:spPr>
            <a:xfrm rot="2673000">
              <a:off x="4142880" y="5239800"/>
              <a:ext cx="315720" cy="282600"/>
            </a:xfrm>
            <a:prstGeom prst="pie">
              <a:avLst/>
            </a:prstGeom>
            <a:solidFill>
              <a:srgbClr val="953735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олилиния 35"/>
            <p:cNvSpPr/>
            <p:nvPr/>
          </p:nvSpPr>
          <p:spPr>
            <a:xfrm>
              <a:off x="4581360" y="539856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Группа 55"/>
          <p:cNvGrpSpPr/>
          <p:nvPr/>
        </p:nvGrpSpPr>
        <p:grpSpPr>
          <a:xfrm>
            <a:off x="1874880" y="4596480"/>
            <a:ext cx="1002600" cy="1928160"/>
            <a:chOff x="1874880" y="4596480"/>
            <a:chExt cx="1002600" cy="1928160"/>
          </a:xfrm>
        </p:grpSpPr>
        <p:sp>
          <p:nvSpPr>
            <p:cNvPr id="150" name="Овал 38"/>
            <p:cNvSpPr/>
            <p:nvPr/>
          </p:nvSpPr>
          <p:spPr>
            <a:xfrm>
              <a:off x="2303280" y="4979520"/>
              <a:ext cx="213840" cy="214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cd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Капля 39"/>
            <p:cNvSpPr/>
            <p:nvPr/>
          </p:nvSpPr>
          <p:spPr>
            <a:xfrm rot="5913000">
              <a:off x="2089080" y="469548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Капля 40"/>
            <p:cNvSpPr/>
            <p:nvPr/>
          </p:nvSpPr>
          <p:spPr>
            <a:xfrm rot="9324000">
              <a:off x="2392200" y="464292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Капля 41"/>
            <p:cNvSpPr/>
            <p:nvPr/>
          </p:nvSpPr>
          <p:spPr>
            <a:xfrm rot="13068600">
              <a:off x="2535120" y="4928400"/>
              <a:ext cx="28548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Капля 42"/>
            <p:cNvSpPr/>
            <p:nvPr/>
          </p:nvSpPr>
          <p:spPr>
            <a:xfrm rot="16804200">
              <a:off x="2392560" y="5143320"/>
              <a:ext cx="285840" cy="28224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Капля 43"/>
            <p:cNvSpPr/>
            <p:nvPr/>
          </p:nvSpPr>
          <p:spPr>
            <a:xfrm rot="21001200">
              <a:off x="2039760" y="51476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Капля 44"/>
            <p:cNvSpPr/>
            <p:nvPr/>
          </p:nvSpPr>
          <p:spPr>
            <a:xfrm rot="2673000">
              <a:off x="1928520" y="4906440"/>
              <a:ext cx="315360" cy="282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Полилиния 45"/>
            <p:cNvSpPr/>
            <p:nvPr/>
          </p:nvSpPr>
          <p:spPr>
            <a:xfrm>
              <a:off x="2365920" y="5065200"/>
              <a:ext cx="61560" cy="1459440"/>
            </a:xfrm>
            <a:prstGeom prst="pie">
              <a:avLst/>
            </a:prstGeom>
            <a:noFill/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57"/>
          <p:cNvGrpSpPr/>
          <p:nvPr/>
        </p:nvGrpSpPr>
        <p:grpSpPr>
          <a:xfrm>
            <a:off x="5875200" y="4453560"/>
            <a:ext cx="1004400" cy="1928160"/>
            <a:chOff x="5875200" y="4453560"/>
            <a:chExt cx="1004400" cy="1928160"/>
          </a:xfrm>
        </p:grpSpPr>
        <p:sp>
          <p:nvSpPr>
            <p:cNvPr id="159" name="Капля 53"/>
            <p:cNvSpPr/>
            <p:nvPr/>
          </p:nvSpPr>
          <p:spPr>
            <a:xfrm rot="2673000">
              <a:off x="5928840" y="4763880"/>
              <a:ext cx="315720" cy="282600"/>
            </a:xfrm>
            <a:prstGeom prst="pie">
              <a:avLst/>
            </a:prstGeom>
            <a:solidFill>
              <a:srgbClr val="bd0d8f"/>
            </a:solidFill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Группа 56"/>
            <p:cNvGrpSpPr/>
            <p:nvPr/>
          </p:nvGrpSpPr>
          <p:grpSpPr>
            <a:xfrm>
              <a:off x="6018480" y="4453560"/>
              <a:ext cx="861120" cy="1928160"/>
              <a:chOff x="6018480" y="4453560"/>
              <a:chExt cx="861120" cy="1928160"/>
            </a:xfrm>
          </p:grpSpPr>
          <p:sp>
            <p:nvSpPr>
              <p:cNvPr id="161" name="Овал 47"/>
              <p:cNvSpPr/>
              <p:nvPr/>
            </p:nvSpPr>
            <p:spPr>
              <a:xfrm>
                <a:off x="6304320" y="4836960"/>
                <a:ext cx="214560" cy="2142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Капля 48"/>
              <p:cNvSpPr/>
              <p:nvPr/>
            </p:nvSpPr>
            <p:spPr>
              <a:xfrm rot="5913000">
                <a:off x="6089760" y="455256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Капля 49"/>
              <p:cNvSpPr/>
              <p:nvPr/>
            </p:nvSpPr>
            <p:spPr>
              <a:xfrm rot="9324000">
                <a:off x="6393600" y="45000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Капля 50"/>
              <p:cNvSpPr/>
              <p:nvPr/>
            </p:nvSpPr>
            <p:spPr>
              <a:xfrm rot="13068600">
                <a:off x="6536880" y="4786200"/>
                <a:ext cx="28584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Капля 51"/>
              <p:cNvSpPr/>
              <p:nvPr/>
            </p:nvSpPr>
            <p:spPr>
              <a:xfrm rot="16804200">
                <a:off x="6393960" y="5000400"/>
                <a:ext cx="285840" cy="28296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Капля 52"/>
              <p:cNvSpPr/>
              <p:nvPr/>
            </p:nvSpPr>
            <p:spPr>
              <a:xfrm rot="21001200">
                <a:off x="6040440" y="5005080"/>
                <a:ext cx="315720" cy="282600"/>
              </a:xfrm>
              <a:prstGeom prst="pie">
                <a:avLst/>
              </a:prstGeom>
              <a:solidFill>
                <a:srgbClr val="bd0d8f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Полилиния 54"/>
              <p:cNvSpPr/>
              <p:nvPr/>
            </p:nvSpPr>
            <p:spPr>
              <a:xfrm>
                <a:off x="6367320" y="4922640"/>
                <a:ext cx="61560" cy="1459080"/>
              </a:xfrm>
              <a:prstGeom prst="pie">
                <a:avLst/>
              </a:prstGeom>
              <a:noFill/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Группа 96"/>
          <p:cNvGrpSpPr/>
          <p:nvPr/>
        </p:nvGrpSpPr>
        <p:grpSpPr>
          <a:xfrm>
            <a:off x="6642000" y="1765080"/>
            <a:ext cx="2509200" cy="3071880"/>
            <a:chOff x="6642000" y="1765080"/>
            <a:chExt cx="2509200" cy="3071880"/>
          </a:xfrm>
        </p:grpSpPr>
        <p:sp>
          <p:nvSpPr>
            <p:cNvPr id="169" name="Овал 76"/>
            <p:cNvSpPr/>
            <p:nvPr/>
          </p:nvSpPr>
          <p:spPr>
            <a:xfrm>
              <a:off x="7643880" y="2122200"/>
              <a:ext cx="642960" cy="571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0" name="Группа 95"/>
            <p:cNvGrpSpPr/>
            <p:nvPr/>
          </p:nvGrpSpPr>
          <p:grpSpPr>
            <a:xfrm>
              <a:off x="6642000" y="1765080"/>
              <a:ext cx="2509200" cy="3071880"/>
              <a:chOff x="6642000" y="1765080"/>
              <a:chExt cx="2509200" cy="3071880"/>
            </a:xfrm>
          </p:grpSpPr>
          <p:sp>
            <p:nvSpPr>
              <p:cNvPr id="171" name="Капля 62"/>
              <p:cNvSpPr/>
              <p:nvPr/>
            </p:nvSpPr>
            <p:spPr>
              <a:xfrm rot="4654800">
                <a:off x="6844320" y="2233800"/>
                <a:ext cx="857160" cy="714240"/>
              </a:xfrm>
              <a:prstGeom prst="pi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Правильный пятиугольник 77"/>
              <p:cNvSpPr/>
              <p:nvPr/>
            </p:nvSpPr>
            <p:spPr>
              <a:xfrm>
                <a:off x="7643880" y="2693520"/>
                <a:ext cx="642960" cy="428400"/>
              </a:xfrm>
              <a:prstGeom prst="pentagon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Овал 78"/>
              <p:cNvSpPr/>
              <p:nvPr/>
            </p:nvSpPr>
            <p:spPr>
              <a:xfrm>
                <a:off x="7429320" y="3122280"/>
                <a:ext cx="1071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Овал 79"/>
              <p:cNvSpPr/>
              <p:nvPr/>
            </p:nvSpPr>
            <p:spPr>
              <a:xfrm>
                <a:off x="7715160" y="2193480"/>
                <a:ext cx="214200" cy="214200"/>
              </a:xfrm>
              <a:prstGeom prst="ellipse">
                <a:avLst/>
              </a:prstGeom>
              <a:solidFill>
                <a:srgbClr val="4bacc6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Овал 80"/>
              <p:cNvSpPr/>
              <p:nvPr/>
            </p:nvSpPr>
            <p:spPr>
              <a:xfrm>
                <a:off x="8001000" y="2193480"/>
                <a:ext cx="214200" cy="214200"/>
              </a:xfrm>
              <a:prstGeom prst="ellipse">
                <a:avLst/>
              </a:prstGeom>
              <a:solidFill>
                <a:srgbClr val="4bacc6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Овал 81"/>
              <p:cNvSpPr/>
              <p:nvPr/>
            </p:nvSpPr>
            <p:spPr>
              <a:xfrm>
                <a:off x="7929720" y="24076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Капля 82"/>
              <p:cNvSpPr/>
              <p:nvPr/>
            </p:nvSpPr>
            <p:spPr>
              <a:xfrm rot="10800000">
                <a:off x="8286480" y="2193480"/>
                <a:ext cx="857160" cy="714240"/>
              </a:xfrm>
              <a:prstGeom prst="pi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Капля 83"/>
              <p:cNvSpPr/>
              <p:nvPr/>
            </p:nvSpPr>
            <p:spPr>
              <a:xfrm rot="1212600">
                <a:off x="6738840" y="2865240"/>
                <a:ext cx="857160" cy="714240"/>
              </a:xfrm>
              <a:prstGeom prst="pi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Капля 84"/>
              <p:cNvSpPr/>
              <p:nvPr/>
            </p:nvSpPr>
            <p:spPr>
              <a:xfrm rot="15166800">
                <a:off x="8254440" y="2994120"/>
                <a:ext cx="857160" cy="714240"/>
              </a:xfrm>
              <a:prstGeom prst="pi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Арка 85"/>
              <p:cNvSpPr/>
              <p:nvPr/>
            </p:nvSpPr>
            <p:spPr>
              <a:xfrm rot="13520400">
                <a:off x="7059960" y="2408760"/>
                <a:ext cx="785880" cy="428400"/>
              </a:xfrm>
              <a:prstGeom prst="pi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Арка 86"/>
              <p:cNvSpPr/>
              <p:nvPr/>
            </p:nvSpPr>
            <p:spPr>
              <a:xfrm flipV="1" rot="15698400">
                <a:off x="7902000" y="3111840"/>
                <a:ext cx="785880" cy="432360"/>
              </a:xfrm>
              <a:prstGeom prst="pi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Фигура, имеющая форму буквы L 87"/>
              <p:cNvSpPr/>
              <p:nvPr/>
            </p:nvSpPr>
            <p:spPr>
              <a:xfrm>
                <a:off x="8215200" y="4051080"/>
                <a:ext cx="142560" cy="785880"/>
              </a:xfrm>
              <a:prstGeom prst="pi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Фигура, имеющая форму буквы L 88"/>
              <p:cNvSpPr/>
              <p:nvPr/>
            </p:nvSpPr>
            <p:spPr>
              <a:xfrm flipH="1">
                <a:off x="7572240" y="4051080"/>
                <a:ext cx="142560" cy="785880"/>
              </a:xfrm>
              <a:prstGeom prst="pi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Овал 89"/>
              <p:cNvSpPr/>
              <p:nvPr/>
            </p:nvSpPr>
            <p:spPr>
              <a:xfrm>
                <a:off x="7024320" y="2193480"/>
                <a:ext cx="285480" cy="21420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Овал 90"/>
              <p:cNvSpPr/>
              <p:nvPr/>
            </p:nvSpPr>
            <p:spPr>
              <a:xfrm>
                <a:off x="8167680" y="3622320"/>
                <a:ext cx="214200" cy="21420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Молния 91"/>
              <p:cNvSpPr/>
              <p:nvPr/>
            </p:nvSpPr>
            <p:spPr>
              <a:xfrm rot="19903800">
                <a:off x="7686360" y="1928880"/>
                <a:ext cx="760320" cy="270720"/>
              </a:xfrm>
              <a:prstGeom prst="lightningBol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Месяц 92"/>
              <p:cNvSpPr/>
              <p:nvPr/>
            </p:nvSpPr>
            <p:spPr>
              <a:xfrm rot="16027200">
                <a:off x="7850880" y="2380680"/>
                <a:ext cx="178560" cy="39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-0.0169 C -0.05972 -0.02871 -0.06875 -0.03912 -0.07239 -0.05185 C -0.07569 -0.06181 -0.08246 -0.07547 -0.08958 -0.08357 C -0.1118 -0.10949 -0.146 -0.13264 -0.1783 -0.14398 C -0.18524 -0.14954 -0.1868 -0.1507 -0.19531 -0.14885 C -0.19479 -0.13449 -0.19566 -0.11991 -0.19392 -0.10579 C -0.1934 -0.1007 -0.18923 -0.09653 -0.18767 -0.09167 C -0.18732 -0.09005 -0.18472 -0.07199 -0.18437 -0.07107 C -0.18489 -0.06644 -0.1842 -0.05394 -0.18923 -0.04885 C -0.20729 -0.03079 -0.24201 -0.01389 -0.26562 -0.00579 C -0.26805 -0.00625 -0.27118 -0.00556 -0.27326 -0.00741 C -0.27934 -0.01297 -0.28333 -0.02547 -0.28732 -0.03287 C -0.29114 -0.06019 -0.30503 -0.08125 -0.3276 -0.0963 C -0.34739 -0.0926 -0.34809 -0.09236 -0.35434 -0.07408 C -0.35573 -0.06459 -0.35798 -0.05625 -0.36041 -0.04723 C -0.36093 -0.03287 -0.36024 -0.01852 -0.36198 -0.0044 C -0.36215 -0.00209 -0.36545 -0.00139 -0.36666 0.00046 C -0.37257 0.00787 -0.37743 0.01574 -0.38385 0.02268 C -0.40312 0.0199 -0.40191 0.01527 -0.41493 0.00208 C -0.41736 -0.00047 -0.42031 -0.00185 -0.42291 -0.0044 C -0.4283 -0.00996 -0.43767 -0.02709 -0.44132 -0.03449 C -0.44635 -0.04445 -0.44357 -0.0463 -0.45399 -0.05348 C -0.46111 -0.05093 -0.46423 -0.05093 -0.46944 -0.0456 C -0.47777 -0.03704 -0.46996 -0.04028 -0.47864 -0.03773 C -0.48212 -0.03079 -0.48333 -0.02385 -0.48646 -0.0169 C -0.48541 -0.00093 -0.48385 0.02037 -0.47413 0.03379 C -0.47239 0.04097 -0.47118 0.04791 -0.46788 0.0544 C -0.46545 0.05879 -0.4618 0.0625 -0.46007 0.06713 C -0.45746 0.07384 -0.45486 0.08009 -0.45069 0.08611 C -0.44739 0.09652 -0.44462 0.10532 -0.44462 0.11643 E">
                                      <p:cBhvr>
                                        <p:cTn id="97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9"/>
          <p:cNvGrpSpPr/>
          <p:nvPr/>
        </p:nvGrpSpPr>
        <p:grpSpPr>
          <a:xfrm>
            <a:off x="285840" y="2214720"/>
            <a:ext cx="3666960" cy="3714480"/>
            <a:chOff x="285840" y="2214720"/>
            <a:chExt cx="3666960" cy="3714480"/>
          </a:xfrm>
        </p:grpSpPr>
        <p:sp>
          <p:nvSpPr>
            <p:cNvPr id="189" name="Овал 3"/>
            <p:cNvSpPr/>
            <p:nvPr/>
          </p:nvSpPr>
          <p:spPr>
            <a:xfrm>
              <a:off x="285840" y="2957400"/>
              <a:ext cx="3666960" cy="297180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Овал 4"/>
            <p:cNvSpPr/>
            <p:nvPr/>
          </p:nvSpPr>
          <p:spPr>
            <a:xfrm>
              <a:off x="693000" y="3328920"/>
              <a:ext cx="1222200" cy="11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Овал 5"/>
            <p:cNvSpPr/>
            <p:nvPr/>
          </p:nvSpPr>
          <p:spPr>
            <a:xfrm>
              <a:off x="2323080" y="3328920"/>
              <a:ext cx="1222200" cy="11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Овал 6"/>
            <p:cNvSpPr/>
            <p:nvPr/>
          </p:nvSpPr>
          <p:spPr>
            <a:xfrm>
              <a:off x="1915560" y="4443480"/>
              <a:ext cx="407160" cy="3711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Облако 7"/>
            <p:cNvSpPr/>
            <p:nvPr/>
          </p:nvSpPr>
          <p:spPr>
            <a:xfrm>
              <a:off x="1100520" y="2214720"/>
              <a:ext cx="2037240" cy="11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Полилиния 8"/>
            <p:cNvSpPr/>
            <p:nvPr/>
          </p:nvSpPr>
          <p:spPr>
            <a:xfrm>
              <a:off x="1248120" y="4924800"/>
              <a:ext cx="1572840" cy="51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5" name="Прямоугольник 11" descr=""/>
          <p:cNvPicPr/>
          <p:nvPr/>
        </p:nvPicPr>
        <p:blipFill>
          <a:blip r:embed="rId1"/>
          <a:stretch/>
        </p:blipFill>
        <p:spPr>
          <a:xfrm>
            <a:off x="3797280" y="426960"/>
            <a:ext cx="578016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Группа 9"/>
          <p:cNvGrpSpPr/>
          <p:nvPr/>
        </p:nvGrpSpPr>
        <p:grpSpPr>
          <a:xfrm>
            <a:off x="3857760" y="133560"/>
            <a:ext cx="4661280" cy="5081400"/>
            <a:chOff x="3857760" y="133560"/>
            <a:chExt cx="4661280" cy="5081400"/>
          </a:xfrm>
        </p:grpSpPr>
        <p:sp>
          <p:nvSpPr>
            <p:cNvPr id="197" name="Овал 3"/>
            <p:cNvSpPr/>
            <p:nvPr/>
          </p:nvSpPr>
          <p:spPr>
            <a:xfrm>
              <a:off x="3857760" y="2118960"/>
              <a:ext cx="3661560" cy="309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Овал 4"/>
            <p:cNvSpPr/>
            <p:nvPr/>
          </p:nvSpPr>
          <p:spPr>
            <a:xfrm>
              <a:off x="4264560" y="25059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Овал 5"/>
            <p:cNvSpPr/>
            <p:nvPr/>
          </p:nvSpPr>
          <p:spPr>
            <a:xfrm>
              <a:off x="5892120" y="25059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Овал 6"/>
            <p:cNvSpPr/>
            <p:nvPr/>
          </p:nvSpPr>
          <p:spPr>
            <a:xfrm>
              <a:off x="5484960" y="3666960"/>
              <a:ext cx="406800" cy="3870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Молния 7"/>
            <p:cNvSpPr/>
            <p:nvPr/>
          </p:nvSpPr>
          <p:spPr>
            <a:xfrm rot="19903800">
              <a:off x="4099680" y="1071360"/>
              <a:ext cx="4330080" cy="14666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Месяц 8"/>
            <p:cNvSpPr/>
            <p:nvPr/>
          </p:nvSpPr>
          <p:spPr>
            <a:xfrm rot="16027200">
              <a:off x="5063400" y="3466800"/>
              <a:ext cx="966960" cy="224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Прямоугольник 10" descr=""/>
          <p:cNvPicPr/>
          <p:nvPr/>
        </p:nvPicPr>
        <p:blipFill>
          <a:blip r:embed="rId1"/>
          <a:stretch/>
        </p:blipFill>
        <p:spPr>
          <a:xfrm>
            <a:off x="19080" y="139680"/>
            <a:ext cx="715644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Группа 9"/>
          <p:cNvGrpSpPr/>
          <p:nvPr/>
        </p:nvGrpSpPr>
        <p:grpSpPr>
          <a:xfrm>
            <a:off x="285840" y="2214720"/>
            <a:ext cx="3666960" cy="3714480"/>
            <a:chOff x="285840" y="2214720"/>
            <a:chExt cx="3666960" cy="3714480"/>
          </a:xfrm>
        </p:grpSpPr>
        <p:sp>
          <p:nvSpPr>
            <p:cNvPr id="205" name="Овал 3"/>
            <p:cNvSpPr/>
            <p:nvPr/>
          </p:nvSpPr>
          <p:spPr>
            <a:xfrm>
              <a:off x="285840" y="2957400"/>
              <a:ext cx="3666960" cy="2971800"/>
            </a:xfrm>
            <a:prstGeom prst="ellipse">
              <a:avLst/>
            </a:prstGeom>
            <a:solidFill>
              <a:srgbClr val="26ea4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Овал 4"/>
            <p:cNvSpPr/>
            <p:nvPr/>
          </p:nvSpPr>
          <p:spPr>
            <a:xfrm>
              <a:off x="693000" y="3328920"/>
              <a:ext cx="1222200" cy="11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Овал 5"/>
            <p:cNvSpPr/>
            <p:nvPr/>
          </p:nvSpPr>
          <p:spPr>
            <a:xfrm>
              <a:off x="2323080" y="3328920"/>
              <a:ext cx="1222200" cy="1114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Овал 6"/>
            <p:cNvSpPr/>
            <p:nvPr/>
          </p:nvSpPr>
          <p:spPr>
            <a:xfrm>
              <a:off x="1915560" y="4443480"/>
              <a:ext cx="407160" cy="3711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Облако 7"/>
            <p:cNvSpPr/>
            <p:nvPr/>
          </p:nvSpPr>
          <p:spPr>
            <a:xfrm>
              <a:off x="1100520" y="2214720"/>
              <a:ext cx="2037240" cy="11142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Полилиния 8"/>
            <p:cNvSpPr/>
            <p:nvPr/>
          </p:nvSpPr>
          <p:spPr>
            <a:xfrm>
              <a:off x="1248120" y="4924800"/>
              <a:ext cx="1572840" cy="51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Прямоугольник 11" descr=""/>
          <p:cNvPicPr/>
          <p:nvPr/>
        </p:nvPicPr>
        <p:blipFill>
          <a:blip r:embed="rId1"/>
          <a:stretch/>
        </p:blipFill>
        <p:spPr>
          <a:xfrm>
            <a:off x="2651040" y="285840"/>
            <a:ext cx="6426360" cy="114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Группа 9"/>
          <p:cNvGrpSpPr/>
          <p:nvPr/>
        </p:nvGrpSpPr>
        <p:grpSpPr>
          <a:xfrm>
            <a:off x="3214800" y="1490760"/>
            <a:ext cx="4661280" cy="5081400"/>
            <a:chOff x="3214800" y="1490760"/>
            <a:chExt cx="4661280" cy="5081400"/>
          </a:xfrm>
        </p:grpSpPr>
        <p:sp>
          <p:nvSpPr>
            <p:cNvPr id="213" name="Овал 3"/>
            <p:cNvSpPr/>
            <p:nvPr/>
          </p:nvSpPr>
          <p:spPr>
            <a:xfrm>
              <a:off x="3214800" y="3476160"/>
              <a:ext cx="3661560" cy="309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Овал 4"/>
            <p:cNvSpPr/>
            <p:nvPr/>
          </p:nvSpPr>
          <p:spPr>
            <a:xfrm>
              <a:off x="3621600" y="38631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Овал 5"/>
            <p:cNvSpPr/>
            <p:nvPr/>
          </p:nvSpPr>
          <p:spPr>
            <a:xfrm>
              <a:off x="5249160" y="3863160"/>
              <a:ext cx="1220400" cy="1161000"/>
            </a:xfrm>
            <a:prstGeom prst="ellipse">
              <a:avLst/>
            </a:prstGeom>
            <a:solidFill>
              <a:srgbClr val="4bacc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Овал 6"/>
            <p:cNvSpPr/>
            <p:nvPr/>
          </p:nvSpPr>
          <p:spPr>
            <a:xfrm>
              <a:off x="4842000" y="5024160"/>
              <a:ext cx="406800" cy="3870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Молния 7"/>
            <p:cNvSpPr/>
            <p:nvPr/>
          </p:nvSpPr>
          <p:spPr>
            <a:xfrm rot="19903800">
              <a:off x="3456720" y="2428560"/>
              <a:ext cx="4330080" cy="14666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Месяц 8"/>
            <p:cNvSpPr/>
            <p:nvPr/>
          </p:nvSpPr>
          <p:spPr>
            <a:xfrm rot="16027200">
              <a:off x="4420440" y="4824000"/>
              <a:ext cx="966960" cy="224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9" name="Прямоугольник 10" descr=""/>
          <p:cNvPicPr/>
          <p:nvPr/>
        </p:nvPicPr>
        <p:blipFill>
          <a:blip r:embed="rId1"/>
          <a:stretch/>
        </p:blipFill>
        <p:spPr>
          <a:xfrm>
            <a:off x="79200" y="139680"/>
            <a:ext cx="7547040" cy="2811600"/>
          </a:xfrm>
          <a:prstGeom prst="rect">
            <a:avLst/>
          </a:prstGeom>
          <a:ln w="0">
            <a:noFill/>
          </a:ln>
        </p:spPr>
      </p:pic>
      <p:grpSp>
        <p:nvGrpSpPr>
          <p:cNvPr id="220" name="Группа 17"/>
          <p:cNvGrpSpPr/>
          <p:nvPr/>
        </p:nvGrpSpPr>
        <p:grpSpPr>
          <a:xfrm>
            <a:off x="857160" y="3125880"/>
            <a:ext cx="2362680" cy="3490200"/>
            <a:chOff x="857160" y="3125880"/>
            <a:chExt cx="2362680" cy="3490200"/>
          </a:xfrm>
        </p:grpSpPr>
        <p:grpSp>
          <p:nvGrpSpPr>
            <p:cNvPr id="221" name="Группа 12"/>
            <p:cNvGrpSpPr/>
            <p:nvPr/>
          </p:nvGrpSpPr>
          <p:grpSpPr>
            <a:xfrm>
              <a:off x="1355040" y="4743000"/>
              <a:ext cx="1864800" cy="1873080"/>
              <a:chOff x="1355040" y="4743000"/>
              <a:chExt cx="1864800" cy="1873080"/>
            </a:xfrm>
          </p:grpSpPr>
          <p:sp>
            <p:nvSpPr>
              <p:cNvPr id="222" name="Цилиндр 9"/>
              <p:cNvSpPr/>
              <p:nvPr/>
            </p:nvSpPr>
            <p:spPr>
              <a:xfrm rot="8109600">
                <a:off x="1968120" y="4573440"/>
                <a:ext cx="285840" cy="1857240"/>
              </a:xfrm>
              <a:prstGeom prst="can">
                <a:avLst>
                  <a:gd name="adj" fmla="val 3847"/>
                </a:avLst>
              </a:prstGeom>
              <a:solidFill>
                <a:srgbClr val="ffffff"/>
              </a:solidFill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Цилиндр 11"/>
              <p:cNvSpPr/>
              <p:nvPr/>
            </p:nvSpPr>
            <p:spPr>
              <a:xfrm rot="8109600">
                <a:off x="2773800" y="6026760"/>
                <a:ext cx="285840" cy="571320"/>
              </a:xfrm>
              <a:prstGeom prst="can">
                <a:avLst>
                  <a:gd name="adj" fmla="val 12500"/>
                </a:avLst>
              </a:prstGeom>
              <a:solidFill>
                <a:srgbClr val="fac090"/>
              </a:solidFill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4" name="Полилиния 13"/>
            <p:cNvSpPr/>
            <p:nvPr/>
          </p:nvSpPr>
          <p:spPr>
            <a:xfrm>
              <a:off x="1335240" y="3125880"/>
              <a:ext cx="567000" cy="1669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оугольный треугольник 15"/>
            <p:cNvSpPr/>
            <p:nvPr/>
          </p:nvSpPr>
          <p:spPr>
            <a:xfrm rot="5853000">
              <a:off x="1341360" y="4795560"/>
              <a:ext cx="357120" cy="285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олилиния 16"/>
            <p:cNvSpPr/>
            <p:nvPr/>
          </p:nvSpPr>
          <p:spPr>
            <a:xfrm>
              <a:off x="857160" y="3191040"/>
              <a:ext cx="1090080" cy="155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7:34:15Z</dcterms:created>
  <dc:creator>Zver</dc:creator>
  <dc:description/>
  <dc:language>en-US</dc:language>
  <cp:lastModifiedBy>Катя</cp:lastModifiedBy>
  <dcterms:modified xsi:type="dcterms:W3CDTF">2010-01-24T17:58:46Z</dcterms:modified>
  <cp:revision>27</cp:revision>
  <dc:subject/>
  <dc:title>Сказка.</dc:title>
</cp:coreProperties>
</file>